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5490-BA44-4163-BEED-343BDCFFB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im Berners Lee, ricercatore del CERN di Ginevra presenta ai dirigenti dei laboratori una relazione "Information Management: a Proposal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l'ottobre di quello stesso anno iniziano le prime sperimentazion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--Marc Andressen  ed Eric Bina sviluppano una interfaccia grafica multipiattaforma per l'accesso ai documenti presenti su World Wide Web, Mosaic, e la distribuiscono gratuitamen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sogna capire le nuove tecnologie per capire come possono cambiare le modalità della comunicazione e della sua conserv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eria un libro e girarlo per leggere sul retro la sintesi del contenuto e le notizie biografiche dell'aut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ttura e Rappresentazione entità separate anche se spesso è difficile comprenderne il limite divis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653-F012-4942-BF1A-A6C62E99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2240" y="3815280"/>
            <a:ext cx="80960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B68-6EEB-46A1-AD90-E6E5459E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0880" y="123804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52240" y="381528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0880" y="381528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AC5-8BD7-4FFB-A4E3-923AA0B8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260676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9680" y="1238040"/>
            <a:ext cx="260676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120" y="1238040"/>
            <a:ext cx="260676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2240" y="3815280"/>
            <a:ext cx="260676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9680" y="3815280"/>
            <a:ext cx="260676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120" y="3815280"/>
            <a:ext cx="260676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2E6-4096-4BD9-A511-26D1D782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5BDF-B54C-4B91-931B-171BD884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B876-5571-4AF4-8CBC-A37B848D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A76E-3B83-46DD-8BEE-2BFA264A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39506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0880" y="1238040"/>
            <a:ext cx="39506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470B-18B4-47D1-9ACF-32459A80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F1E7-90B6-41EF-A2AB-28A7BC20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4764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C14C-863E-4622-8FDA-43D6FDF7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0880" y="1238040"/>
            <a:ext cx="39506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2240" y="381528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70B7-97AB-4315-96DF-A024D2DA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939-AB74-4DDB-A9D1-7C01C919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39506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0880" y="123804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00880" y="381528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4B5E-90A8-4731-B698-8EE2830D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0880" y="123804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2240" y="3815280"/>
            <a:ext cx="80960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6262-FBBD-4B42-AB1C-D5842CC9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2240" y="3815280"/>
            <a:ext cx="80960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CE85-DAB3-4DA7-A89E-31AD0F6C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0880" y="123804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2240" y="381528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00880" y="381528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4C68-C4EA-4881-A4A5-2EE28799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260676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9680" y="1238040"/>
            <a:ext cx="260676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7120" y="1238040"/>
            <a:ext cx="260676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52240" y="3815280"/>
            <a:ext cx="260676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9680" y="3815280"/>
            <a:ext cx="260676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7120" y="3815280"/>
            <a:ext cx="260676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E8CA-3C0D-444C-AABC-F28F22AA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EF1-99F4-419E-A013-2C658251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39506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0880" y="1238040"/>
            <a:ext cx="39506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D39-7080-4368-ABFA-704B5C01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10ED-0D88-446B-8AB5-669A6C5F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764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C8C-AA9E-4493-8054-89063108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0880" y="1238040"/>
            <a:ext cx="39506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52240" y="381528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B13-6158-4CAA-B979-6ED2E13A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39506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0880" y="123804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0880" y="381528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3C2-AC39-45B4-9637-3BF57E24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0880" y="1238040"/>
            <a:ext cx="39506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2240" y="3815280"/>
            <a:ext cx="8096040" cy="235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ED4-EFC1-40D7-B735-6221F1E4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Click to edit the outline text format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Second Outline Level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2" marL="1467000" indent="-228600">
              <a:spcBef>
                <a:spcPts val="1687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Third Outline Level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3" marL="1886040" indent="-228600">
              <a:spcBef>
                <a:spcPts val="1687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Fourth Outline Level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4" marL="2305080" indent="-228600">
              <a:spcBef>
                <a:spcPts val="1687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Fifth Outline Level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5" marL="2305080" indent="-228600">
              <a:spcBef>
                <a:spcPts val="1687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Sixth Outline Level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6" marL="2305080" indent="-228600">
              <a:spcBef>
                <a:spcPts val="1687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Seventh Outline Level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cc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48BA-B82F-426C-BE46-B098E19D15E5}" type="datetime2">
              <a:rPr b="0" i="1" lang="en-US" sz="1200" spc="-1" strike="noStrike">
                <a:solidFill>
                  <a:srgbClr val="ffcc00"/>
                </a:solidFill>
                <a:latin typeface="Book Antiqua"/>
              </a:rPr>
              <a:t>Wednesday, July 29,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cc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cc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cc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0633-330B-4F82-A3E5-B630DC246D7D}" type="slidenum">
              <a:rPr b="0" i="1" lang="en-US" sz="1200" spc="-1" strike="noStrike">
                <a:solidFill>
                  <a:srgbClr val="ffcc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4440" y="6343560"/>
            <a:ext cx="8248680" cy="255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cc66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58280" y="3257640"/>
            <a:ext cx="8094600" cy="799560"/>
            <a:chOff x="458280" y="3257640"/>
            <a:chExt cx="8094600" cy="799560"/>
          </a:xfrm>
        </p:grpSpPr>
        <p:grpSp>
          <p:nvGrpSpPr>
            <p:cNvPr id="43" name=""/>
            <p:cNvGrpSpPr/>
            <p:nvPr/>
          </p:nvGrpSpPr>
          <p:grpSpPr>
            <a:xfrm>
              <a:off x="458280" y="3257640"/>
              <a:ext cx="8094600" cy="799560"/>
              <a:chOff x="458280" y="3257640"/>
              <a:chExt cx="8094600" cy="799560"/>
            </a:xfrm>
          </p:grpSpPr>
          <p:sp>
            <p:nvSpPr>
              <p:cNvPr id="44" name=""/>
              <p:cNvSpPr/>
              <p:nvPr/>
            </p:nvSpPr>
            <p:spPr>
              <a:xfrm>
                <a:off x="459720" y="3257640"/>
                <a:ext cx="8089920" cy="79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4" y="0"/>
                    </a:moveTo>
                    <a:arcTo wR="10800" hR="10800" stAng="-5401907" swAng="108515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4" y="0"/>
                    </a:moveTo>
                    <a:arcTo wR="10800" hR="10800" stAng="-5401907" swAng="10851576"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8280" y="3340080"/>
                <a:ext cx="8094600" cy="63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4" y="0"/>
                    </a:moveTo>
                    <a:arcTo wR="10800" hR="10800" stAng="-5401906" swAng="108534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4" y="0"/>
                    </a:moveTo>
                    <a:arcTo wR="10800" hR="10800" stAng="-5401906" swAng="10853497"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62600" y="3449520"/>
                <a:ext cx="8088840" cy="41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4" y="0"/>
                    </a:moveTo>
                    <a:arcTo wR="10800" hR="10800" stAng="-5401907" swAng="108535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4" y="0"/>
                    </a:moveTo>
                    <a:arcTo wR="10800" hR="10800" stAng="-5401907" swAng="10853596"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590400" y="3635280"/>
              <a:ext cx="7391520" cy="42480"/>
              <a:chOff x="590400" y="3635280"/>
              <a:chExt cx="7391520" cy="42480"/>
            </a:xfrm>
          </p:grpSpPr>
          <p:sp>
            <p:nvSpPr>
              <p:cNvPr id="48" name=""/>
              <p:cNvSpPr/>
              <p:nvPr/>
            </p:nvSpPr>
            <p:spPr>
              <a:xfrm flipV="1">
                <a:off x="590400" y="3635280"/>
                <a:ext cx="3581280" cy="42480"/>
              </a:xfrm>
              <a:prstGeom prst="roundRect">
                <a:avLst>
                  <a:gd name="adj" fmla="val 49995"/>
                </a:avLst>
              </a:prstGeom>
              <a:gradFill rotWithShape="0">
                <a:gsLst>
                  <a:gs pos="0">
                    <a:srgbClr val="cc990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3714480" y="3635280"/>
                <a:ext cx="4267440" cy="42480"/>
              </a:xfrm>
              <a:prstGeom prst="roundRect">
                <a:avLst>
                  <a:gd name="adj" fmla="val 49995"/>
                </a:avLst>
              </a:prstGeom>
              <a:gradFill rotWithShape="0">
                <a:gsLst>
                  <a:gs pos="0">
                    <a:srgbClr val="ffcc00"/>
                  </a:gs>
                  <a:gs pos="100000">
                    <a:srgbClr val="cc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140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F36A-74D7-48DA-981C-9843601B8014}" type="datetime2">
              <a:rPr b="0" lang="en-US" sz="1400" spc="-1" strike="noStrike">
                <a:solidFill>
                  <a:srgbClr val="ffcc00"/>
                </a:solidFill>
                <a:latin typeface="Arial"/>
              </a:rPr>
              <a:t>Wednesday, July 29, 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821F-5F33-46F2-80D6-2CDCC1489E7D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Click to edit the outline text format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1" marL="457200"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lvl="2" marL="914400" indent="324000" algn="ctr">
              <a:spcBef>
                <a:spcPts val="550"/>
              </a:spcBef>
              <a:buClr>
                <a:srgbClr val="ffffff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lvl="3" marL="1371600" indent="285840" algn="ctr">
              <a:spcBef>
                <a:spcPts val="451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ook Antiqua"/>
              </a:rPr>
              <a:t>Fourth Outline Level</a:t>
            </a:r>
            <a:endParaRPr b="0" lang="en-US" sz="1800" spc="-1" strike="noStrike">
              <a:solidFill>
                <a:srgbClr val="ffcc00"/>
              </a:solidFill>
              <a:latin typeface="Book Antiqua"/>
            </a:endParaRPr>
          </a:p>
          <a:p>
            <a:pPr lvl="4" marL="1828800" indent="247680" algn="ctr">
              <a:spcBef>
                <a:spcPts val="451"/>
              </a:spcBef>
              <a:buClr>
                <a:srgbClr val="ffffff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ook Antiqua"/>
              </a:rPr>
              <a:t>Fifth Outline Level</a:t>
            </a:r>
            <a:endParaRPr b="0" lang="en-US" sz="1800" spc="-1" strike="noStrike">
              <a:solidFill>
                <a:srgbClr val="ffcc00"/>
              </a:solidFill>
              <a:latin typeface="Book Antiqua"/>
            </a:endParaRPr>
          </a:p>
          <a:p>
            <a:pPr lvl="5" marL="1828800" indent="247680">
              <a:spcBef>
                <a:spcPts val="45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ook Antiqua"/>
              </a:rPr>
              <a:t>Sixth Outline Level</a:t>
            </a:r>
            <a:endParaRPr b="0" lang="en-US" sz="1800" spc="-1" strike="noStrike">
              <a:solidFill>
                <a:srgbClr val="ffcc00"/>
              </a:solidFill>
              <a:latin typeface="Book Antiqua"/>
            </a:endParaRPr>
          </a:p>
          <a:p>
            <a:pPr lvl="6" marL="1828800" indent="247680">
              <a:spcBef>
                <a:spcPts val="451"/>
              </a:spcBef>
              <a:buClr>
                <a:srgbClr val="ffcc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Book Antiqua"/>
              </a:rPr>
              <a:t>Seventh Outline Level</a:t>
            </a:r>
            <a:endParaRPr b="0" lang="en-US" sz="1800" spc="-1" strike="noStrike">
              <a:solidFill>
                <a:srgbClr val="ffcc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140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La struttura dei documenti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XML</a:t>
            </a:r>
            <a:endParaRPr b="1" i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457520"/>
            <a:ext cx="6400800" cy="102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244520" indent="0">
              <a:spcBef>
                <a:spcPts val="16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… </a:t>
            </a: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e qual è il “mondo” in cui conoscenza, informazione, dati, ipertesti, contenuti e alternanti rappresentazioni si fondono?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1244520" indent="0">
              <a:spcBef>
                <a:spcPts val="16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1244520" indent="0">
              <a:spcBef>
                <a:spcPts val="16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Internet!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BB8-BA9E-4140-883C-159EDB3B87CC}" type="slidenum">
              <a:t>10</a:t>
            </a:fld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Un po’ di storia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Il World Wide Web inizia nel maggio 1990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Tim Berners Lee, ricercatore del CERN di Ginevra si pone come obbiettivo sviluppare un sistema di pubblicazione e reperimento dell'informazione distribuito su rete geografica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Per alcuni anni WWW resta uno strumento utilizzato solo dalla comunità scientifica 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L'impulso decisivo, nel ‘93, viene dal National Center for Supercomputing Applications (</a:t>
            </a:r>
            <a:r>
              <a:rPr b="1" lang="it-IT" sz="2700" spc="-1" strike="noStrike">
                <a:solidFill>
                  <a:srgbClr val="ffffff"/>
                </a:solidFill>
                <a:latin typeface="Book Antiqua"/>
              </a:rPr>
              <a:t>NCSA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) dell'Università dell'Illinois e nasce </a:t>
            </a:r>
            <a:r>
              <a:rPr b="1" lang="it-IT" sz="2700" spc="-1" strike="noStrike">
                <a:solidFill>
                  <a:srgbClr val="ffcc00"/>
                </a:solidFill>
                <a:latin typeface="Book Antiqua"/>
              </a:rPr>
              <a:t>Mosaic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0723-1792-4F9C-8C29-E595CB80B5A7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Book Antiqua"/>
              </a:rPr>
              <a:t>Il Markup ed il Web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Nell’80 GenCode e GML fondono in “American National Standards Institute” (</a:t>
            </a:r>
            <a:r>
              <a:rPr b="1" lang="it-IT" sz="2700" spc="-1" strike="noStrike">
                <a:solidFill>
                  <a:srgbClr val="ffffff"/>
                </a:solidFill>
                <a:latin typeface="Book Antiqua"/>
              </a:rPr>
              <a:t>ANSI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)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Nel ‘86 nasce </a:t>
            </a:r>
            <a:r>
              <a:rPr b="1" lang="it-IT" sz="2700" spc="-1" strike="noStrike">
                <a:solidFill>
                  <a:srgbClr val="ffffff"/>
                </a:solidFill>
                <a:latin typeface="Book Antiqua"/>
              </a:rPr>
              <a:t>Standardized Generalized Markup Language </a:t>
            </a:r>
            <a:r>
              <a:rPr b="0" lang="it-IT" sz="27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SGML) (ISO 8879)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Presente anche il CERN 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Da SGML grazie a Lee che aggiunge i Link nasce </a:t>
            </a:r>
            <a:r>
              <a:rPr b="1" lang="it-IT" sz="2700" spc="-1" strike="noStrike">
                <a:solidFill>
                  <a:srgbClr val="ffffff"/>
                </a:solidFill>
                <a:latin typeface="Book Antiqua"/>
              </a:rPr>
              <a:t>HTML, 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linguaggio di markup per applicazioni Web utilizzando i browser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EDB-C702-4DFB-870C-D3C0F9FFA737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Book Antiqua"/>
              </a:rPr>
              <a:t>La text encoding initiative (TEI)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66560" indent="-466560">
              <a:lnSpc>
                <a:spcPct val="90000"/>
              </a:lnSpc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Nel 1988 un consorzio di università americane, a cui rapidamente aderiscono ricercatori della CE </a:t>
            </a:r>
            <a:r>
              <a:rPr b="0" i="1" lang="it-IT" sz="2300" spc="-1" strike="noStrike">
                <a:solidFill>
                  <a:srgbClr val="ffcc00"/>
                </a:solidFill>
                <a:latin typeface="Book Antiqua"/>
              </a:rPr>
              <a:t>[…] were named to deal with problems of text documentation, text representation, text analysis and interpretation and metalanguage and syntax issues[…]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. 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66560" indent="-466560">
              <a:lnSpc>
                <a:spcPct val="90000"/>
              </a:lnSpc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La prima versione delle raccomandazioni TEI viene diffusa nel 1990, ma il lavoro della commissione vede il suo completamento nel 1993 con le </a:t>
            </a:r>
            <a:r>
              <a:rPr b="0" i="1" lang="it-IT" sz="2700" spc="-1" strike="noStrike">
                <a:solidFill>
                  <a:srgbClr val="ffcc00"/>
                </a:solidFill>
                <a:latin typeface="Book Antiqua"/>
              </a:rPr>
              <a:t>Guidelines ver 1.0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, i documenti TEI sono stati costantemente aggiornati negli anni successivi, la commissione è tutt’oggi ancora attiva 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6A6-C14F-4EEB-AEE4-6E63132D45AC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Book Antiqua"/>
              </a:rPr>
              <a:t>I Linguaggi di Markup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7840" y="1765080"/>
            <a:ext cx="8096040" cy="202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Descrivono i meccanismi di 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strutturazione </a:t>
            </a: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e di </a:t>
            </a:r>
            <a:r>
              <a:rPr b="0" lang="en-US" sz="2700" spc="-1" strike="noStrike">
                <a:solidFill>
                  <a:srgbClr val="ffffff"/>
                </a:solidFill>
                <a:latin typeface="Book Antiqua"/>
              </a:rPr>
              <a:t>rappresentazione</a:t>
            </a: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 del testo 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"marcano"</a:t>
            </a:r>
            <a:r>
              <a:rPr b="0" lang="en-US" sz="2200" spc="-1" strike="noStrike">
                <a:solidFill>
                  <a:srgbClr val="ffcc00"/>
                </a:solidFill>
                <a:latin typeface="Book Antiqua"/>
              </a:rPr>
              <a:t> le porzioni di testo indicandone le caratteristiche 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E49-6433-476A-8F87-3265FE7CDD79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Cosa è sbagliato in HTML?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La </a:t>
            </a:r>
            <a:r>
              <a:rPr b="1" lang="it-IT" sz="2700" spc="-1" strike="noStrike">
                <a:solidFill>
                  <a:srgbClr val="ffffff"/>
                </a:solidFill>
                <a:latin typeface="Book Antiqua"/>
              </a:rPr>
              <a:t>Staticità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Se l’idea è marcare informazioni in modo molto preciso i TAG HTML possono non bastare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Esempio un chimico per le formule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Un costruttore di aeroplani per i motori, modelli...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mantenere tutti i tag possibili sarebbe davvero difficile!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EC0-0023-4CAD-BA3F-EAC860492FA9}" type="slidenum">
              <a:t>15</a:t>
            </a:fld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Inadeguatezza di HTML - Nuove richieste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Da tempo HTML non rispondeva alle esigenze degli sviluppatori di applicazioni Web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Gli utenti richiedono pagine complesse, vogliono essere stupiti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Le prestazioni hardware migliorano permettendo sempre cose più complesse a più persone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CF3-F182-47F6-8F8E-92A9AB7EDA1E}" type="slidenum">
              <a:t>16</a:t>
            </a:fld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HTML e SGML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HTML è quindi un </a:t>
            </a:r>
            <a:r>
              <a:rPr b="1" lang="it-IT" sz="2700" spc="-1" strike="noStrike">
                <a:solidFill>
                  <a:srgbClr val="ffcc00"/>
                </a:solidFill>
                <a:latin typeface="Book Antiqua"/>
              </a:rPr>
              <a:t>linguaggio 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SGML è un </a:t>
            </a:r>
            <a:r>
              <a:rPr b="1" lang="it-IT" sz="2700" spc="-1" strike="noStrike">
                <a:solidFill>
                  <a:srgbClr val="ffffff"/>
                </a:solidFill>
                <a:latin typeface="Book Antiqua"/>
              </a:rPr>
              <a:t>metalinguaggio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HTML è semplice ma rigido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SGML è duttile ma molto complesso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AE9-DF3D-423D-9F2B-2AD74D76DA0D}" type="slidenum">
              <a:t>17</a:t>
            </a:fld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Esigenza dell’XML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nell’estate del ‘96 il W3C inizia un lavoro per un nuovo standard di applicazioni Web per risolvere i problemi 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Nasce un nuovo working group (XWG) per creare un nuovo standard eXstensible Markup Language (XML)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Qualcosa di più di HTML, qualcosa di più semplice di SGML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 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A11-B915-426D-A704-AB203C649C7F}" type="slidenum">
              <a:t>18</a:t>
            </a:fld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XML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57200" indent="-457200">
              <a:spcBef>
                <a:spcPts val="1811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ffcc00"/>
                </a:solidFill>
                <a:latin typeface="Book Antiqua"/>
              </a:rPr>
              <a:t>Tim Bray, uno degli autori di XML 1.0 scrive: </a:t>
            </a:r>
            <a:endParaRPr b="0" lang="en-US" sz="2900" spc="-1" strike="noStrike">
              <a:solidFill>
                <a:srgbClr val="ffcc00"/>
              </a:solidFill>
              <a:latin typeface="Book Antiqua"/>
            </a:endParaRPr>
          </a:p>
          <a:p>
            <a:pPr marL="457200" indent="-457200">
              <a:spcBef>
                <a:spcPts val="1562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500" spc="-1" strike="noStrike">
                <a:solidFill>
                  <a:srgbClr val="ffffff"/>
                </a:solidFill>
                <a:latin typeface="Book Antiqua"/>
              </a:rPr>
              <a:t>Unfortunately</a:t>
            </a:r>
            <a:r>
              <a:rPr b="0" lang="it-IT" sz="2500" spc="-1" strike="noStrike">
                <a:solidFill>
                  <a:srgbClr val="ffcc00"/>
                </a:solidFill>
                <a:latin typeface="Book Antiqua"/>
              </a:rPr>
              <a:t>, there are things that HTML just can't do for you. </a:t>
            </a:r>
            <a:r>
              <a:rPr b="0" i="1" lang="it-IT" sz="2500" spc="-1" strike="noStrike">
                <a:solidFill>
                  <a:srgbClr val="ffffff"/>
                </a:solidFill>
                <a:latin typeface="Book Antiqua"/>
              </a:rPr>
              <a:t>Fortunately</a:t>
            </a:r>
            <a:r>
              <a:rPr b="0" lang="it-IT" sz="2500" spc="-1" strike="noStrike">
                <a:solidFill>
                  <a:srgbClr val="ffcc00"/>
                </a:solidFill>
                <a:latin typeface="Book Antiqua"/>
              </a:rPr>
              <a:t>, HTML is growing quickly to meet these needs. </a:t>
            </a:r>
            <a:endParaRPr b="0" lang="en-US" sz="2500" spc="-1" strike="noStrike">
              <a:solidFill>
                <a:srgbClr val="ffcc00"/>
              </a:solidFill>
              <a:latin typeface="Book Antiqua"/>
            </a:endParaRPr>
          </a:p>
          <a:p>
            <a:pPr marL="457200" indent="-457200">
              <a:spcBef>
                <a:spcPts val="1811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500" spc="-1" strike="noStrike">
                <a:solidFill>
                  <a:srgbClr val="ffffff"/>
                </a:solidFill>
                <a:latin typeface="Book Antiqua"/>
              </a:rPr>
              <a:t>Unfortunately</a:t>
            </a:r>
            <a:r>
              <a:rPr b="0" lang="it-IT" sz="2500" spc="-1" strike="noStrike">
                <a:solidFill>
                  <a:srgbClr val="ffcc00"/>
                </a:solidFill>
                <a:latin typeface="Book Antiqua"/>
              </a:rPr>
              <a:t>, no matter how many new tags are added, there will never be enough for all the good ideas people keep having. </a:t>
            </a:r>
            <a:r>
              <a:rPr b="0" i="1" lang="it-IT" sz="2500" spc="-1" strike="noStrike">
                <a:solidFill>
                  <a:srgbClr val="ffffff"/>
                </a:solidFill>
                <a:latin typeface="Book Antiqua"/>
              </a:rPr>
              <a:t>Fortunately</a:t>
            </a:r>
            <a:r>
              <a:rPr b="0" lang="it-IT" sz="2500" spc="-1" strike="noStrike">
                <a:solidFill>
                  <a:srgbClr val="ffcc00"/>
                </a:solidFill>
                <a:latin typeface="Book Antiqua"/>
              </a:rPr>
              <a:t>, HTML is a form of SGML [...]. </a:t>
            </a:r>
            <a:r>
              <a:rPr b="0" i="1" lang="it-IT" sz="2500" spc="-1" strike="noStrike">
                <a:solidFill>
                  <a:srgbClr val="ffffff"/>
                </a:solidFill>
                <a:latin typeface="Book Antiqua"/>
              </a:rPr>
              <a:t>Unfortunately</a:t>
            </a:r>
            <a:r>
              <a:rPr b="0" lang="it-IT" sz="2500" spc="-1" strike="noStrike">
                <a:solidFill>
                  <a:srgbClr val="ffcc00"/>
                </a:solidFill>
                <a:latin typeface="Book Antiqua"/>
              </a:rPr>
              <a:t>, the SGML standard is large, takes time to learn, and doesn't have a "starter kit". </a:t>
            </a:r>
            <a:r>
              <a:rPr b="0" i="1" lang="it-IT" sz="25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0" i="1" lang="it-IT" sz="2500" spc="-1" strike="noStrike">
                <a:solidFill>
                  <a:srgbClr val="ffffff"/>
                </a:solidFill>
                <a:latin typeface="Book Antiqua"/>
              </a:rPr>
              <a:t>Fortunately</a:t>
            </a:r>
            <a:r>
              <a:rPr b="0" lang="it-IT" sz="2500" spc="-1" strike="noStrike">
                <a:solidFill>
                  <a:srgbClr val="ffcc00"/>
                </a:solidFill>
                <a:latin typeface="Book Antiqua"/>
              </a:rPr>
              <a:t>, XML is here.</a:t>
            </a:r>
            <a:r>
              <a:rPr b="0" lang="it-IT" sz="2900" spc="-1" strike="noStrike">
                <a:solidFill>
                  <a:srgbClr val="ffcc00"/>
                </a:solidFill>
                <a:latin typeface="Book Antiqua"/>
              </a:rPr>
              <a:t> </a:t>
            </a:r>
            <a:endParaRPr b="0" lang="en-US" sz="2900" spc="-1" strike="noStrike">
              <a:solidFill>
                <a:srgbClr val="ffcc00"/>
              </a:solidFill>
              <a:latin typeface="Book Antiqua"/>
            </a:endParaRPr>
          </a:p>
          <a:p>
            <a:pPr marL="457200" indent="0">
              <a:spcBef>
                <a:spcPts val="18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0A2-806D-46EB-9E58-565CEB78C65D}" type="slidenum">
              <a:t>19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… </a:t>
            </a: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una premessa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312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ffcc00"/>
                </a:solidFill>
                <a:latin typeface="Book Antiqua"/>
              </a:rPr>
              <a:t>conoscenza</a:t>
            </a:r>
            <a:br>
              <a:rPr sz="2900"/>
            </a:br>
            <a:r>
              <a:rPr b="0" lang="it-IT" sz="2100" spc="-1" strike="noStrike">
                <a:solidFill>
                  <a:srgbClr val="ffcc00"/>
                </a:solidFill>
                <a:latin typeface="Book Antiqua"/>
              </a:rPr>
              <a:t>rappresentazione cognitiva della realtà</a:t>
            </a:r>
            <a:endParaRPr b="0" lang="en-US" sz="21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312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ffcc00"/>
                </a:solidFill>
                <a:latin typeface="Book Antiqua"/>
              </a:rPr>
              <a:t>informazione</a:t>
            </a:r>
            <a:br>
              <a:rPr sz="2900"/>
            </a:br>
            <a:r>
              <a:rPr b="0" lang="it-IT" sz="2100" spc="-1" strike="noStrike">
                <a:solidFill>
                  <a:srgbClr val="ffcc00"/>
                </a:solidFill>
                <a:latin typeface="Book Antiqua"/>
              </a:rPr>
              <a:t>atto o effetto del trasmettere o ricevere conoscenza</a:t>
            </a:r>
            <a:endParaRPr b="0" lang="en-US" sz="21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312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ffcc00"/>
                </a:solidFill>
                <a:latin typeface="Book Antiqua"/>
              </a:rPr>
              <a:t>metadati</a:t>
            </a:r>
            <a:br>
              <a:rPr sz="2900"/>
            </a:br>
            <a:r>
              <a:rPr b="0" lang="it-IT" sz="2100" spc="-1" strike="noStrike">
                <a:solidFill>
                  <a:srgbClr val="ffcc00"/>
                </a:solidFill>
                <a:latin typeface="Book Antiqua"/>
              </a:rPr>
              <a:t>categorie astratte per la classificazione dell’informazione</a:t>
            </a:r>
            <a:endParaRPr b="0" lang="en-US" sz="21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312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ffcc00"/>
                </a:solidFill>
                <a:latin typeface="Book Antiqua"/>
              </a:rPr>
              <a:t>dati</a:t>
            </a:r>
            <a:br>
              <a:rPr sz="2900"/>
            </a:br>
            <a:r>
              <a:rPr b="0" lang="it-IT" sz="2100" spc="-1" strike="noStrike">
                <a:solidFill>
                  <a:srgbClr val="ffcc00"/>
                </a:solidFill>
                <a:latin typeface="Book Antiqua"/>
              </a:rPr>
              <a:t>elementi osservabili (istanze), coerenti all’interno del disegno definito dai metadati, utilizzati per la codifica della informazione trasmessa</a:t>
            </a:r>
            <a:endParaRPr b="0" lang="en-US" sz="21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562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cc00"/>
                </a:solidFill>
                <a:latin typeface="Book Antiqua"/>
              </a:rPr>
              <a:t>rappresentazione</a:t>
            </a:r>
            <a:endParaRPr b="0" lang="en-US" sz="25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8E3-84DD-4E99-BC54-A6AA94EAC860}" type="slidenum">
              <a:t>2</a:t>
            </a:fld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XML - Introduzione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XML = Extensible Markup Language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0"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“</a:t>
            </a: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XML is a language for creating markup languages that describe structured data.”</a:t>
            </a:r>
            <a:br>
              <a:rPr sz="2200"/>
            </a:b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Mike Edwards, Microsoft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Descrive i dati e non la loro rappresentazione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Ha un formato aperto e leggibile visualmente simile all’HTML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0C8-2144-46F7-AE7A-192E3754F231}" type="slidenum">
              <a:t>20</a:t>
            </a:fld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XML - Introduzione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lnSpc>
                <a:spcPct val="90000"/>
              </a:lnSpc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eXtensible - non rigido come HTML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lnSpc>
                <a:spcPct val="90000"/>
              </a:lnSpc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Ottimo per la trasmissione di dati da server e browser (internet)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lnSpc>
                <a:spcPct val="90000"/>
              </a:lnSpc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Ottimo per la trasmissione da applicazione a applicazione, da macchina a macchina indipendentemente dal sistema operativo (portabilità)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lnSpc>
                <a:spcPct val="90000"/>
              </a:lnSpc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E’ un metalinguaggio usato per definire nuovi domini applicativi o linguaggi specifici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lnSpc>
                <a:spcPct val="90000"/>
              </a:lnSpc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HTML &lt; XML &lt; SGML 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D36-0695-4939-A822-BE0BCBDAF02E}" type="slidenum">
              <a:t>21</a:t>
            </a:fld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Book Antiqua"/>
              </a:rPr>
              <a:t>Che cosa è un documento? 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Documento si riferisce non soltanto ai documenti tradizionali ma anche al miriade di altri formati di dati XML 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Questi includono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le transazioni di commercio elettronico, 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le equazioni matematiche, 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i meta dati di un oggetto, 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ed altri mille generi di informazioni strutturate. 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6A47-513E-4E6B-8702-07E746CD7B98}" type="slidenum">
              <a:t>22</a:t>
            </a:fld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XML e HTML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XML non specifica né la semantica né un insieme di TAG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XML è un </a:t>
            </a:r>
            <a:r>
              <a:rPr b="0" lang="it-IT" sz="2700" spc="-1" strike="noStrike">
                <a:solidFill>
                  <a:srgbClr val="ffffff"/>
                </a:solidFill>
                <a:latin typeface="Book Antiqua"/>
              </a:rPr>
              <a:t>metalinguaggio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 per la descrizione dei linguaggi di markup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XML fornisce un modo per definire i tag ed i rapporti </a:t>
            </a:r>
            <a:r>
              <a:rPr b="0" lang="it-IT" sz="2700" spc="-1" strike="noStrike">
                <a:solidFill>
                  <a:srgbClr val="ffffff"/>
                </a:solidFill>
                <a:latin typeface="Book Antiqua"/>
              </a:rPr>
              <a:t>strutturali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 fra loro 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Poiché non vi è un insieme predefinito di TAG, un doc xml può esistere in assenza di una</a:t>
            </a:r>
            <a:r>
              <a:rPr b="0" lang="it-IT" sz="2700" spc="-1" strike="noStrike">
                <a:solidFill>
                  <a:srgbClr val="ffffff"/>
                </a:solidFill>
                <a:latin typeface="Book Antiqua"/>
              </a:rPr>
              <a:t> semantica dei metadati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E9F-3C21-4B4C-AF11-3A51AEF72061}" type="slidenum">
              <a:t>23</a:t>
            </a:fld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… </a:t>
            </a: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sul concetto di metalinguaggio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linguaggio: insieme di simboli, vocaboli  per generare stringhe accettate da un insieme di regole (grammatica)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metalinguaggio: linguaggio per descrivere linguaggi, la sua grammatica genera regole generali che vengono successivamente “cristallizzate” attraverso ulteriori specificazioni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4A5-ABBE-467D-9488-B2B97EC405BC}" type="slidenum">
              <a:t>24</a:t>
            </a:fld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61800" y="0"/>
            <a:ext cx="8096400" cy="30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09040" indent="-509040">
              <a:spcBef>
                <a:spcPts val="1063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cc00"/>
                </a:solidFill>
                <a:latin typeface="Book Antiqua"/>
              </a:rPr>
              <a:t>An anthology contains a number of poems and nothing else.</a:t>
            </a:r>
            <a:endParaRPr b="0" lang="en-US" sz="1700" spc="-1" strike="noStrike">
              <a:solidFill>
                <a:srgbClr val="ffcc00"/>
              </a:solidFill>
              <a:latin typeface="Book Antiqua"/>
            </a:endParaRPr>
          </a:p>
          <a:p>
            <a:pPr marL="509040" indent="-509040">
              <a:spcBef>
                <a:spcPts val="1063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cc00"/>
                </a:solidFill>
                <a:latin typeface="Book Antiqua"/>
              </a:rPr>
              <a:t>A poem always has a single title element which precedes the first stanza and contains no other elements.</a:t>
            </a:r>
            <a:endParaRPr b="0" lang="en-US" sz="1700" spc="-1" strike="noStrike">
              <a:solidFill>
                <a:srgbClr val="ffcc00"/>
              </a:solidFill>
              <a:latin typeface="Book Antiqua"/>
            </a:endParaRPr>
          </a:p>
          <a:p>
            <a:pPr marL="509040" indent="-509040">
              <a:spcBef>
                <a:spcPts val="1063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cc00"/>
                </a:solidFill>
                <a:latin typeface="Book Antiqua"/>
              </a:rPr>
              <a:t>Apart from the title, a poem consists only of stanzas.</a:t>
            </a:r>
            <a:endParaRPr b="0" lang="en-US" sz="1700" spc="-1" strike="noStrike">
              <a:solidFill>
                <a:srgbClr val="ffcc00"/>
              </a:solidFill>
              <a:latin typeface="Book Antiqua"/>
            </a:endParaRPr>
          </a:p>
          <a:p>
            <a:pPr marL="509040" indent="-509040">
              <a:spcBef>
                <a:spcPts val="1063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cc00"/>
                </a:solidFill>
                <a:latin typeface="Book Antiqua"/>
              </a:rPr>
              <a:t>Stanzas consist only of lines and every line is contained by a stanza.</a:t>
            </a:r>
            <a:endParaRPr b="0" lang="en-US" sz="1700" spc="-1" strike="noStrike">
              <a:solidFill>
                <a:srgbClr val="ffcc00"/>
              </a:solidFill>
              <a:latin typeface="Book Antiqua"/>
            </a:endParaRPr>
          </a:p>
          <a:p>
            <a:pPr marL="509040" indent="-509040">
              <a:spcBef>
                <a:spcPts val="1063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cc00"/>
                </a:solidFill>
                <a:latin typeface="Book Antiqua"/>
              </a:rPr>
              <a:t>Nothing can follow a stanza except another stanza or the end of a poem.</a:t>
            </a:r>
            <a:endParaRPr b="0" lang="en-US" sz="1700" spc="-1" strike="noStrike">
              <a:solidFill>
                <a:srgbClr val="ffcc00"/>
              </a:solidFill>
              <a:latin typeface="Book Antiqua"/>
            </a:endParaRPr>
          </a:p>
          <a:p>
            <a:pPr marL="509040" indent="-509040">
              <a:spcBef>
                <a:spcPts val="181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cc00"/>
                </a:solidFill>
                <a:latin typeface="Book Antiqua"/>
              </a:rPr>
              <a:t>Nothing can follow a line except another line or the start of a new stanza</a:t>
            </a:r>
            <a:r>
              <a:rPr b="0" lang="it-IT" sz="2900" spc="-1" strike="noStrike">
                <a:solidFill>
                  <a:srgbClr val="ffcc00"/>
                </a:solidFill>
                <a:latin typeface="Book Antiqua"/>
              </a:rPr>
              <a:t>.</a:t>
            </a:r>
            <a:endParaRPr b="0" lang="en-US" sz="2900" spc="-1" strike="noStrike">
              <a:solidFill>
                <a:srgbClr val="ffcc00"/>
              </a:solidFill>
              <a:latin typeface="Book Antiqua"/>
            </a:endParaRPr>
          </a:p>
          <a:p>
            <a:pPr marL="509040" indent="0">
              <a:spcBef>
                <a:spcPts val="18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cc00"/>
              </a:solidFill>
              <a:latin typeface="Book Antiqu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1274" t="17384" r="34084" b="38264"/>
          <a:stretch/>
        </p:blipFill>
        <p:spPr>
          <a:xfrm>
            <a:off x="2017800" y="2965320"/>
            <a:ext cx="4354560" cy="324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AA2-36DF-4697-A403-C2B9F32E0F68}" type="slidenum">
              <a:t>25</a:t>
            </a:fld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360" y="512100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&lt;anthology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&lt;poem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&lt;title&gt;The SICK ROSE&lt;/titl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&lt;stanza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line&gt;O Rose thou art sick.&lt;/lin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line&gt;The invisible worm,&lt;/lin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line&gt;That flies in the night&lt;/lin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line&gt;In the howling storm:&lt;/lin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&lt;/stanza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&lt;stanza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line&gt;Has found out thy bed&lt;/lin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line&gt;Of crimson joy:&lt;/lin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line&gt;And his dark secret love&lt;/lin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line&gt;Does thy life destroy.&lt;/lin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&lt;/stanza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&lt;/poem&gt;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!-- more poems go here    --&gt;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&lt;/anthology&gt;</a:t>
            </a:r>
            <a:endParaRPr b="1" i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42B-792B-4027-B70D-AF75479E667C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80680" y="1345680"/>
            <a:ext cx="5445000" cy="25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712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cc00"/>
                </a:solidFill>
                <a:latin typeface="Arial Unicode MS"/>
              </a:rPr>
              <a:t>&lt;!ELEMENT anthology  (poem+)&gt;</a:t>
            </a:r>
            <a:endParaRPr b="0" lang="en-US" sz="25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cc00"/>
                </a:solidFill>
                <a:latin typeface="Arial Unicode MS"/>
              </a:rPr>
              <a:t>&lt;!ELEMENT poem  (title?, stanza+)&gt; </a:t>
            </a:r>
            <a:endParaRPr b="0" lang="en-US" sz="25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cc00"/>
                </a:solidFill>
                <a:latin typeface="Arial Unicode MS"/>
              </a:rPr>
              <a:t>&lt;!ELEMENT title (#PCDATA) &gt; </a:t>
            </a:r>
            <a:endParaRPr b="0" lang="en-US" sz="25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cc00"/>
                </a:solidFill>
                <a:latin typeface="Arial Unicode MS"/>
              </a:rPr>
              <a:t>&lt;!ELEMENT stanza  (line+) &gt; </a:t>
            </a:r>
            <a:endParaRPr b="0" lang="en-US" sz="25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cc00"/>
                </a:solidFill>
                <a:latin typeface="Arial Unicode MS"/>
              </a:rPr>
              <a:t>&lt;!ELEMENT line (#PCDATA) &gt;</a:t>
            </a:r>
            <a:r>
              <a:rPr b="0" lang="it-IT" sz="2500" spc="-1" strike="noStrike">
                <a:solidFill>
                  <a:srgbClr val="ffcc00"/>
                </a:solidFill>
                <a:latin typeface="Book Antiqua"/>
              </a:rPr>
              <a:t> </a:t>
            </a:r>
            <a:endParaRPr b="0" lang="en-US" sz="25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150" name=""/>
          <p:cNvSpPr/>
          <p:nvPr/>
        </p:nvSpPr>
        <p:spPr>
          <a:xfrm>
            <a:off x="421920" y="60660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Times New Roman"/>
              </a:rPr>
              <a:t>Document type definitio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CF7-B7C5-4813-8ADD-B7A128DFD9FD}" type="slidenum">
              <a:t>27</a:t>
            </a:fld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2360" y="5168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&lt;anthology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&lt;poem id_poem=“#1” author”blake” origin=“manuscript”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&lt;title&gt;The SICK ROSE&lt;/titl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&lt;stanza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line&gt;O Rose thou art sick.&lt;/lin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line&gt;The invisible worm,&lt;/lin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line&gt;That flies in the night&lt;/lin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line&gt;In the howling storm:&lt;/lin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&lt;/stanza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&lt;stanza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line&gt;Has found out thy bed&lt;/lin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line&gt;Of crimson joy:&lt;/lin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line&gt;And his dark secret love&lt;/lin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line&gt;Does thy life destroy.&lt;/line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&lt;/stanza&gt;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&lt;/poem&gt;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          &lt;!-- more poems go here    --&gt;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Book Antiqua"/>
              </a:rPr>
              <a:t>    &lt;/anthology&gt;</a:t>
            </a:r>
            <a:endParaRPr b="1" i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5B9-3111-4160-9DA5-B0E3E309346F}" type="slidenum">
              <a:t>28</a:t>
            </a:fld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80680" y="1346040"/>
            <a:ext cx="5994360" cy="26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2000"/>
          </a:bodyPr>
          <a:p>
            <a:pPr marL="295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cc00"/>
                </a:solidFill>
                <a:latin typeface="Arial Unicode MS"/>
              </a:rPr>
              <a:t>&lt;!ELEMENT anthology  (poem+)&gt;</a:t>
            </a:r>
            <a:endParaRPr b="0" lang="en-US" sz="2100" spc="-1" strike="noStrike">
              <a:solidFill>
                <a:srgbClr val="ffcc00"/>
              </a:solidFill>
              <a:latin typeface="Book Antiqua"/>
            </a:endParaRPr>
          </a:p>
          <a:p>
            <a:pPr marL="295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cc00"/>
                </a:solidFill>
                <a:latin typeface="Arial Unicode MS"/>
              </a:rPr>
              <a:t>&lt;!ELEMENT poem  (title?, stanza+)&gt; </a:t>
            </a:r>
            <a:endParaRPr b="0" lang="en-US" sz="2100" spc="-1" strike="noStrike">
              <a:solidFill>
                <a:srgbClr val="ffcc00"/>
              </a:solidFill>
              <a:latin typeface="Book Antiqua"/>
            </a:endParaRPr>
          </a:p>
          <a:p>
            <a:pPr marL="295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cc00"/>
                </a:solidFill>
                <a:latin typeface="Arial Unicode MS"/>
              </a:rPr>
              <a:t>&lt;!ATTLIST poem</a:t>
            </a:r>
            <a:endParaRPr b="0" lang="en-US" sz="2100" spc="-1" strike="noStrike">
              <a:solidFill>
                <a:srgbClr val="ffcc00"/>
              </a:solidFill>
              <a:latin typeface="Book Antiqua"/>
            </a:endParaRPr>
          </a:p>
          <a:p>
            <a:pPr marL="295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cc00"/>
                </a:solidFill>
                <a:latin typeface="Arial Unicode MS"/>
              </a:rPr>
              <a:t>      </a:t>
            </a:r>
            <a:r>
              <a:rPr b="0" lang="it-IT" sz="2100" spc="-1" strike="noStrike">
                <a:solidFill>
                  <a:srgbClr val="ffcc00"/>
                </a:solidFill>
                <a:latin typeface="Arial Unicode MS"/>
              </a:rPr>
              <a:t>id_poem CDATA #REQUIRED</a:t>
            </a:r>
            <a:endParaRPr b="0" lang="en-US" sz="2100" spc="-1" strike="noStrike">
              <a:solidFill>
                <a:srgbClr val="ffcc00"/>
              </a:solidFill>
              <a:latin typeface="Book Antiqua"/>
            </a:endParaRPr>
          </a:p>
          <a:p>
            <a:pPr marL="295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cc00"/>
                </a:solidFill>
                <a:latin typeface="Arial Unicode MS"/>
              </a:rPr>
              <a:t>      </a:t>
            </a:r>
            <a:r>
              <a:rPr b="0" lang="it-IT" sz="2100" spc="-1" strike="noStrike">
                <a:solidFill>
                  <a:srgbClr val="ffcc00"/>
                </a:solidFill>
                <a:latin typeface="Arial Unicode MS"/>
              </a:rPr>
              <a:t>author CDATA #REQUIRED</a:t>
            </a:r>
            <a:endParaRPr b="0" lang="en-US" sz="2100" spc="-1" strike="noStrike">
              <a:solidFill>
                <a:srgbClr val="ffcc00"/>
              </a:solidFill>
              <a:latin typeface="Book Antiqua"/>
            </a:endParaRPr>
          </a:p>
          <a:p>
            <a:pPr marL="295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cc00"/>
                </a:solidFill>
                <a:latin typeface="Arial Unicode MS"/>
              </a:rPr>
              <a:t>      </a:t>
            </a:r>
            <a:r>
              <a:rPr b="0" lang="it-IT" sz="2100" spc="-1" strike="noStrike">
                <a:solidFill>
                  <a:srgbClr val="ffcc00"/>
                </a:solidFill>
                <a:latin typeface="Arial Unicode MS"/>
              </a:rPr>
              <a:t>origin (manuscript | press | oral_trans) #IMPLIED</a:t>
            </a:r>
            <a:endParaRPr b="0" lang="en-US" sz="2100" spc="-1" strike="noStrike">
              <a:solidFill>
                <a:srgbClr val="ffcc00"/>
              </a:solidFill>
              <a:latin typeface="Book Antiqua"/>
            </a:endParaRPr>
          </a:p>
          <a:p>
            <a:pPr marL="295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cc00"/>
                </a:solidFill>
                <a:latin typeface="Arial Unicode MS"/>
              </a:rPr>
              <a:t>&gt;      </a:t>
            </a:r>
            <a:endParaRPr b="0" lang="en-US" sz="2100" spc="-1" strike="noStrike">
              <a:solidFill>
                <a:srgbClr val="ffcc00"/>
              </a:solidFill>
              <a:latin typeface="Book Antiqua"/>
            </a:endParaRPr>
          </a:p>
          <a:p>
            <a:pPr marL="295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cc00"/>
                </a:solidFill>
                <a:latin typeface="Arial Unicode MS"/>
              </a:rPr>
              <a:t>&lt;!ELEMENT title (#PCDATA) &gt; </a:t>
            </a:r>
            <a:endParaRPr b="0" lang="en-US" sz="2100" spc="-1" strike="noStrike">
              <a:solidFill>
                <a:srgbClr val="ffcc00"/>
              </a:solidFill>
              <a:latin typeface="Book Antiqua"/>
            </a:endParaRPr>
          </a:p>
          <a:p>
            <a:pPr marL="295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cc00"/>
                </a:solidFill>
                <a:latin typeface="Arial Unicode MS"/>
              </a:rPr>
              <a:t>&lt;!ELEMENT stanza  (line+) &gt; </a:t>
            </a:r>
            <a:endParaRPr b="0" lang="en-US" sz="2100" spc="-1" strike="noStrike">
              <a:solidFill>
                <a:srgbClr val="ffcc00"/>
              </a:solidFill>
              <a:latin typeface="Book Antiqua"/>
            </a:endParaRPr>
          </a:p>
          <a:p>
            <a:pPr marL="295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ffcc00"/>
                </a:solidFill>
                <a:latin typeface="Arial Unicode MS"/>
              </a:rPr>
              <a:t>&lt;!ELEMENT line (#PCDATA) &gt;</a:t>
            </a:r>
            <a:r>
              <a:rPr b="0" lang="it-IT" sz="2100" spc="-1" strike="noStrike">
                <a:solidFill>
                  <a:srgbClr val="ffcc00"/>
                </a:solidFill>
                <a:latin typeface="Book Antiqua"/>
              </a:rPr>
              <a:t> </a:t>
            </a:r>
            <a:endParaRPr b="0" lang="en-US" sz="2100" spc="-1" strike="noStrike">
              <a:solidFill>
                <a:srgbClr val="ffcc00"/>
              </a:solidFill>
              <a:latin typeface="Book Antiqua"/>
            </a:endParaRPr>
          </a:p>
          <a:p>
            <a:pPr marL="295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153" name=""/>
          <p:cNvSpPr/>
          <p:nvPr/>
        </p:nvSpPr>
        <p:spPr>
          <a:xfrm>
            <a:off x="421920" y="60660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Times New Roman"/>
              </a:rPr>
              <a:t>Document type definitio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963-39FE-43F6-A9FE-B8EEB831C202}" type="slidenum">
              <a:t>29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Struttura e Rappresentazione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Un libro si legge seguendo un certo ordine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un font più grande, come un allineamento più a sinistra, indica un capitolo 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un font minore,  o un allineamento più a destra, un paragrafo 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La scrittura ha definito il rapporto fra la </a:t>
            </a:r>
            <a:r>
              <a:rPr b="1" i="1" lang="it-IT" sz="2700" spc="-1" strike="noStrike">
                <a:solidFill>
                  <a:srgbClr val="ffffff"/>
                </a:solidFill>
                <a:latin typeface="Book Antiqua"/>
              </a:rPr>
              <a:t>struttura</a:t>
            </a:r>
            <a:r>
              <a:rPr b="0" i="1" lang="it-IT" sz="27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it-IT" sz="2700" spc="-1" strike="noStrike">
                <a:solidFill>
                  <a:srgbClr val="ffffff"/>
                </a:solidFill>
                <a:latin typeface="Book Antiqua"/>
              </a:rPr>
              <a:t>gerarchica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 delle informazioni e la </a:t>
            </a:r>
            <a:r>
              <a:rPr b="1" i="1" lang="it-IT" sz="2700" spc="-1" strike="noStrike">
                <a:solidFill>
                  <a:srgbClr val="ffffff"/>
                </a:solidFill>
                <a:latin typeface="Book Antiqua"/>
              </a:rPr>
              <a:t>rappresentazione visiva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83E-90FB-4D80-822E-CDC16FDE9A47}" type="slidenum">
              <a:t>3</a:t>
            </a:fld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documento ben formato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documento valido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70F-850E-4DAE-96D1-CB3AFC31ABD7}" type="slidenum">
              <a:t>30</a:t>
            </a:fld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Un semplice esempio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52240" y="1085400"/>
            <a:ext cx="8096040" cy="50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71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&lt;?xml version="1.0" standalone="no"?&gt;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&lt;!DOCTYPE booklist SYSTEM "booklist.dtd"&gt;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&lt;BOOKLIST&gt; 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&lt;BOOK&gt;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&lt;TITLE edition="1961"&gt;Primo Libro&lt;/TITLE&gt;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&lt;AUTHOR&gt;Primo Autore&lt;/AUTHOR&gt;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&lt;/BOOK&gt;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&lt;BOOK&gt;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&lt;TITLE edition="1972" type=”Adventure"&gt; 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Secondo Libro&lt;/TITLE&gt;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&lt;AUTHOR&gt;Secondo Autore&lt;/AUTHOR&gt;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&lt;/BOOK&gt;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&lt;/BOOKLIST&gt; 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1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659640" y="896400"/>
            <a:ext cx="2296080" cy="455760"/>
            <a:chOff x="6659640" y="896400"/>
            <a:chExt cx="2296080" cy="455760"/>
          </a:xfrm>
        </p:grpSpPr>
        <p:sp>
          <p:nvSpPr>
            <p:cNvPr id="159" name=""/>
            <p:cNvSpPr/>
            <p:nvPr/>
          </p:nvSpPr>
          <p:spPr>
            <a:xfrm>
              <a:off x="7479720" y="896400"/>
              <a:ext cx="147600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Dichiarazione</a:t>
              </a:r>
              <a:endParaRPr b="0" lang="en-US" sz="16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848800">
              <a:off x="6667560" y="1085400"/>
              <a:ext cx="895320" cy="171360"/>
            </a:xfrm>
            <a:prstGeom prst="leftArrow">
              <a:avLst>
                <a:gd name="adj1" fmla="val 50000"/>
                <a:gd name="adj2" fmla="val 13062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044040" y="1832040"/>
            <a:ext cx="1587240" cy="451080"/>
            <a:chOff x="6044040" y="1832040"/>
            <a:chExt cx="1587240" cy="451080"/>
          </a:xfrm>
        </p:grpSpPr>
        <p:sp>
          <p:nvSpPr>
            <p:cNvPr id="162" name=""/>
            <p:cNvSpPr/>
            <p:nvPr/>
          </p:nvSpPr>
          <p:spPr>
            <a:xfrm>
              <a:off x="6437160" y="1945800"/>
              <a:ext cx="119412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DTD locale</a:t>
              </a:r>
              <a:endParaRPr b="0" lang="en-US" sz="16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7689800">
              <a:off x="6210000" y="1771560"/>
              <a:ext cx="171360" cy="475920"/>
            </a:xfrm>
            <a:prstGeom prst="upArrow">
              <a:avLst>
                <a:gd name="adj1" fmla="val 50000"/>
                <a:gd name="adj2" fmla="val 6943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47840" y="1793520"/>
            <a:ext cx="1452960" cy="337320"/>
            <a:chOff x="2247840" y="1793520"/>
            <a:chExt cx="1452960" cy="337320"/>
          </a:xfrm>
        </p:grpSpPr>
        <p:sp>
          <p:nvSpPr>
            <p:cNvPr id="165" name=""/>
            <p:cNvSpPr/>
            <p:nvPr/>
          </p:nvSpPr>
          <p:spPr>
            <a:xfrm>
              <a:off x="2933280" y="1793520"/>
              <a:ext cx="76752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radice</a:t>
              </a:r>
              <a:endParaRPr b="0" lang="en-US" sz="16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47840" y="1905120"/>
              <a:ext cx="723600" cy="112680"/>
            </a:xfrm>
            <a:prstGeom prst="leftArrow">
              <a:avLst>
                <a:gd name="adj1" fmla="val 50000"/>
                <a:gd name="adj2" fmla="val 16054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446080" y="3812760"/>
            <a:ext cx="1847880" cy="783720"/>
            <a:chOff x="5446080" y="3812760"/>
            <a:chExt cx="1847880" cy="783720"/>
          </a:xfrm>
        </p:grpSpPr>
        <p:sp>
          <p:nvSpPr>
            <p:cNvPr id="168" name=""/>
            <p:cNvSpPr/>
            <p:nvPr/>
          </p:nvSpPr>
          <p:spPr>
            <a:xfrm>
              <a:off x="5446080" y="3812760"/>
              <a:ext cx="184788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Attributo e valore</a:t>
              </a:r>
              <a:endParaRPr b="0" lang="en-US" sz="16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856600">
              <a:off x="5790960" y="4057560"/>
              <a:ext cx="190440" cy="495360"/>
            </a:xfrm>
            <a:prstGeom prst="downArrow">
              <a:avLst>
                <a:gd name="adj1" fmla="val 50000"/>
                <a:gd name="adj2" fmla="val 6502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9437600">
              <a:off x="6724080" y="4057920"/>
              <a:ext cx="190800" cy="533160"/>
            </a:xfrm>
            <a:prstGeom prst="downArrow">
              <a:avLst>
                <a:gd name="adj1" fmla="val 50000"/>
                <a:gd name="adj2" fmla="val 6985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730600" y="3030840"/>
            <a:ext cx="2724840" cy="916920"/>
            <a:chOff x="2730600" y="3030840"/>
            <a:chExt cx="2724840" cy="916920"/>
          </a:xfrm>
        </p:grpSpPr>
        <p:sp>
          <p:nvSpPr>
            <p:cNvPr id="172" name=""/>
            <p:cNvSpPr/>
            <p:nvPr/>
          </p:nvSpPr>
          <p:spPr>
            <a:xfrm>
              <a:off x="3368160" y="3367080"/>
              <a:ext cx="1473120" cy="580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ahoma"/>
                </a:rPr>
                <a:t>Tag apertura </a:t>
              </a:r>
              <a:br>
                <a:rPr sz="1600"/>
              </a:br>
              <a:r>
                <a:rPr b="0" lang="it-IT" sz="1600" spc="-1" strike="noStrike">
                  <a:solidFill>
                    <a:srgbClr val="ffffff"/>
                  </a:solidFill>
                  <a:latin typeface="Tahoma"/>
                </a:rPr>
                <a:t>e chiusura</a:t>
              </a:r>
              <a:endParaRPr b="0" lang="en-US" sz="16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457200">
              <a:off x="3011400" y="2951280"/>
              <a:ext cx="184320" cy="799920"/>
            </a:xfrm>
            <a:prstGeom prst="upArrow">
              <a:avLst>
                <a:gd name="adj1" fmla="val 50000"/>
                <a:gd name="adj2" fmla="val 10849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3101400">
              <a:off x="4992120" y="2950920"/>
              <a:ext cx="184320" cy="800280"/>
            </a:xfrm>
            <a:prstGeom prst="upArrow">
              <a:avLst>
                <a:gd name="adj1" fmla="val 50000"/>
                <a:gd name="adj2" fmla="val 10854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5B1-D73C-45AC-92C8-3B4AAC389AE5}" type="slidenum">
              <a:t>31</a:t>
            </a:fld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DTD dell’esempio RICETTA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ffffff"/>
                </a:solidFill>
                <a:latin typeface="Book Antiqua"/>
              </a:rPr>
              <a:t>DTD ricettario.dtd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&lt;!ELEMENT ricettario (ricetta)*&gt;</a:t>
            </a:r>
            <a:endParaRPr b="0" lang="en-US" sz="24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&lt;!ELEMENT ricetta (titolo, ingred+, </a:t>
            </a: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passo+)&gt;</a:t>
            </a:r>
            <a:endParaRPr b="0" lang="en-US" sz="24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&lt;!ATTLIST ricetta numero ID #REQUIRED&gt;</a:t>
            </a:r>
            <a:endParaRPr b="0" lang="en-US" sz="24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&lt;!ELEMENT titolo (#PCDATA)&gt;</a:t>
            </a:r>
            <a:endParaRPr b="0" lang="en-US" sz="24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&lt;!ELEMENT ingred (#PCDATA)&gt;</a:t>
            </a:r>
            <a:endParaRPr b="0" lang="en-US" sz="24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&lt;!ELEMENT passo (#PCDATA)&gt;</a:t>
            </a:r>
            <a:endParaRPr b="0" lang="en-US" sz="24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ffcc00"/>
                </a:solidFill>
                <a:latin typeface="Courier New"/>
              </a:rPr>
              <a:t>&lt;!ATTLIST passo numero ID #REQUIRED</a:t>
            </a:r>
            <a:r>
              <a:rPr b="0" lang="it-IT" sz="2400" spc="-1" strike="noStrike">
                <a:solidFill>
                  <a:srgbClr val="ffcc00"/>
                </a:solidFill>
                <a:latin typeface="Book Antiqua"/>
              </a:rPr>
              <a:t>&gt;</a:t>
            </a:r>
            <a:endParaRPr b="0" lang="en-US" sz="2400" spc="-1" strike="noStrike">
              <a:solidFill>
                <a:srgbClr val="ffcc00"/>
              </a:solidFill>
              <a:latin typeface="Book Antiqu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02640" y="1698120"/>
            <a:ext cx="4427280" cy="515880"/>
            <a:chOff x="2402640" y="1698120"/>
            <a:chExt cx="4427280" cy="515880"/>
          </a:xfrm>
        </p:grpSpPr>
        <p:sp>
          <p:nvSpPr>
            <p:cNvPr id="178" name=""/>
            <p:cNvSpPr/>
            <p:nvPr/>
          </p:nvSpPr>
          <p:spPr>
            <a:xfrm>
              <a:off x="4168080" y="1698120"/>
              <a:ext cx="266184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Dichiarazione di Elemento</a:t>
              </a:r>
              <a:endParaRPr b="0" lang="en-US" sz="16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4822200">
              <a:off x="3276360" y="1047600"/>
              <a:ext cx="133200" cy="1885680"/>
            </a:xfrm>
            <a:prstGeom prst="downArrow">
              <a:avLst>
                <a:gd name="adj1" fmla="val 50000"/>
                <a:gd name="adj2" fmla="val 35391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289960" y="5440320"/>
            <a:ext cx="3087000" cy="672120"/>
            <a:chOff x="2289960" y="5440320"/>
            <a:chExt cx="3087000" cy="672120"/>
          </a:xfrm>
        </p:grpSpPr>
        <p:sp>
          <p:nvSpPr>
            <p:cNvPr id="181" name=""/>
            <p:cNvSpPr/>
            <p:nvPr/>
          </p:nvSpPr>
          <p:spPr>
            <a:xfrm>
              <a:off x="2760840" y="5775120"/>
              <a:ext cx="261612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ff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Dichiarazione di Attributo</a:t>
              </a:r>
              <a:endParaRPr b="0" lang="en-US" sz="16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8412200">
              <a:off x="2514600" y="5390640"/>
              <a:ext cx="209880" cy="666720"/>
            </a:xfrm>
            <a:prstGeom prst="upArrow">
              <a:avLst>
                <a:gd name="adj1" fmla="val 50000"/>
                <a:gd name="adj2" fmla="val 794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385-1D57-4161-9EBB-FF55166767B2}" type="slidenum">
              <a:t>32</a:t>
            </a:fld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Creare un file XML (1/2)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8439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 u="sng">
                <a:solidFill>
                  <a:srgbClr val="ffffff"/>
                </a:solidFill>
                <a:uFillTx/>
                <a:latin typeface="Book Antiqua"/>
              </a:rPr>
              <a:t>Marcatori di Istruzioni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000" spc="-1" strike="noStrike">
                <a:solidFill>
                  <a:srgbClr val="ffcc00"/>
                </a:solidFill>
                <a:latin typeface="Courier New"/>
              </a:rPr>
              <a:t>&lt;?xml version="1.0" encoding="ISO-8859-1" ?&gt;</a:t>
            </a:r>
            <a:endParaRPr b="0" lang="en-US" sz="20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5063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 u="sng">
                <a:solidFill>
                  <a:srgbClr val="ffffff"/>
                </a:solidFill>
                <a:uFillTx/>
                <a:latin typeface="Book Antiqua"/>
              </a:rPr>
              <a:t>Marcatori di Dichiarazione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0" lang="it-IT" sz="2000" spc="-1" strike="noStrike">
                <a:solidFill>
                  <a:srgbClr val="ffcc00"/>
                </a:solidFill>
                <a:latin typeface="Courier New"/>
              </a:rPr>
              <a:t>&lt;!DOCTYPE agenda SYSTEM "agenda.dtd"&gt;</a:t>
            </a:r>
            <a:endParaRPr b="0" lang="en-US" sz="20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5063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 u="sng">
                <a:solidFill>
                  <a:srgbClr val="ffffff"/>
                </a:solidFill>
                <a:uFillTx/>
                <a:latin typeface="Book Antiqua"/>
              </a:rPr>
              <a:t>Marcatori di Descrizione 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Il primo marcatore, detto </a:t>
            </a:r>
            <a:r>
              <a:rPr b="1" lang="it-IT" sz="2200" spc="-1" strike="noStrike" u="sng">
                <a:solidFill>
                  <a:srgbClr val="ffffff"/>
                </a:solidFill>
                <a:uFillTx/>
                <a:latin typeface="Book Antiqua"/>
              </a:rPr>
              <a:t>radice</a:t>
            </a: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 deve avere il nome assegnato alla DTD nella dichiarazione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8E1-C4C8-48C9-A8D9-A23DD17D71B1}" type="slidenum">
              <a:t>33</a:t>
            </a:fld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Creare un file XML (2/2)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XML </a:t>
            </a:r>
            <a:r>
              <a:rPr b="1" lang="it-IT" sz="2700" spc="-1" strike="noStrike" u="sng">
                <a:solidFill>
                  <a:srgbClr val="ffffff"/>
                </a:solidFill>
                <a:uFillTx/>
                <a:latin typeface="Book Antiqua"/>
              </a:rPr>
              <a:t>case-sensitive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137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&lt;P&gt; è diverso da &lt;p&gt;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3376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XML </a:t>
            </a:r>
            <a:r>
              <a:rPr b="1" lang="it-IT" sz="2700" spc="-1" strike="noStrike" u="sng">
                <a:solidFill>
                  <a:srgbClr val="ffffff"/>
                </a:solidFill>
                <a:uFillTx/>
                <a:latin typeface="Book Antiqua"/>
              </a:rPr>
              <a:t>obbliga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 a mettere i valori degli attributi tra virgolette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Courier New"/>
              </a:rPr>
              <a:t>&lt;nome dob=“value”&gt; Laura Papaleo &lt;/nome&gt;</a:t>
            </a:r>
            <a:endParaRPr b="0" lang="en-US" sz="20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in XML </a:t>
            </a:r>
            <a:r>
              <a:rPr b="1" lang="it-IT" sz="2700" spc="-1" strike="noStrike">
                <a:solidFill>
                  <a:srgbClr val="ffffff"/>
                </a:solidFill>
                <a:latin typeface="Book Antiqua"/>
              </a:rPr>
              <a:t>chiudere i TAG è obbligatorio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solo i TAG vuoti hanno 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/</a:t>
            </a: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 al loro interno (  </a:t>
            </a:r>
            <a:r>
              <a:rPr b="0" lang="it-IT" sz="2200" spc="-1" strike="noStrike">
                <a:solidFill>
                  <a:srgbClr val="ffcc00"/>
                </a:solidFill>
                <a:latin typeface="Courier New"/>
              </a:rPr>
              <a:t>&lt;br/&gt; </a:t>
            </a:r>
            <a:r>
              <a:rPr b="0" lang="it-IT" sz="2200" spc="-1" strike="noStrike">
                <a:solidFill>
                  <a:srgbClr val="ffcc00"/>
                </a:solidFill>
                <a:latin typeface="Book Antiqua"/>
              </a:rPr>
              <a:t>)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Inserire la </a:t>
            </a:r>
            <a:r>
              <a:rPr b="1" lang="it-IT" sz="2700" spc="-1" strike="noStrike">
                <a:solidFill>
                  <a:srgbClr val="ffffff"/>
                </a:solidFill>
                <a:latin typeface="Book Antiqua"/>
              </a:rPr>
              <a:t>RADICE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0">
              <a:lnSpc>
                <a:spcPct val="10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857-6083-4A73-8B06-62806B9ED05D}" type="slidenum">
              <a:t>34</a:t>
            </a:fld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Book Antiqua"/>
              </a:rPr>
              <a:t>esempi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Tei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clips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morfosintassi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BCD-AE1C-4031-9B05-CF5006F5674F}" type="slidenum">
              <a:t>35</a:t>
            </a:fld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Book Antiqua"/>
              </a:rPr>
              <a:t>Un foglio di stile per un doc xml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38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Courier New"/>
              </a:rPr>
              <a:t>&lt;?xml version=“1.0” ?&gt;</a:t>
            </a:r>
            <a:endParaRPr b="0" lang="en-US" sz="2000" spc="-1" strike="noStrike">
              <a:solidFill>
                <a:srgbClr val="ffcc00"/>
              </a:solidFill>
              <a:latin typeface="Book Antiqua"/>
            </a:endParaRPr>
          </a:p>
          <a:p>
            <a:pPr marL="438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Courier New"/>
              </a:rPr>
              <a:t>&lt;xsl:stylesheet xmlns:xsl=“http://www.w3.org/1999/XSL/Transform” xmlns:fo=“http://www.w3.org/1999/XSL/Format” result-ns=“fo” indent-result=“yes”&gt;</a:t>
            </a:r>
            <a:endParaRPr b="0" lang="en-US" sz="2000" spc="-1" strike="noStrike">
              <a:solidFill>
                <a:srgbClr val="ffcc00"/>
              </a:solidFill>
              <a:latin typeface="Book Antiqua"/>
            </a:endParaRPr>
          </a:p>
          <a:p>
            <a:pPr lvl="1" marL="87624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cc00"/>
                </a:solidFill>
                <a:latin typeface="Courier New"/>
              </a:rPr>
              <a:t>&lt;/fo:queue&gt;</a:t>
            </a:r>
            <a:endParaRPr b="0" lang="en-US" sz="2500" spc="-1" strike="noStrike">
              <a:solidFill>
                <a:srgbClr val="ffcc00"/>
              </a:solidFill>
              <a:latin typeface="Book Antiqua"/>
            </a:endParaRPr>
          </a:p>
          <a:p>
            <a:pPr marL="438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Courier New"/>
              </a:rPr>
              <a:t>&lt;xsl:template match=‘/’&gt;</a:t>
            </a:r>
            <a:endParaRPr b="0" lang="en-US" sz="2000" spc="-1" strike="noStrike">
              <a:solidFill>
                <a:srgbClr val="ffcc00"/>
              </a:solidFill>
              <a:latin typeface="Book Antiqua"/>
            </a:endParaRPr>
          </a:p>
          <a:p>
            <a:pPr marL="438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Courier New"/>
              </a:rPr>
              <a:t>&lt;fo:basic-page-sequence font-family=“serif”&gt;</a:t>
            </a:r>
            <a:endParaRPr b="0" lang="en-US" sz="2000" spc="-1" strike="noStrike">
              <a:solidFill>
                <a:srgbClr val="ffcc00"/>
              </a:solidFill>
              <a:latin typeface="Book Antiqua"/>
            </a:endParaRPr>
          </a:p>
          <a:p>
            <a:pPr lvl="1" marL="87624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cc00"/>
                </a:solidFill>
                <a:latin typeface="Courier New"/>
              </a:rPr>
              <a:t>&lt;fo:simple-page-master page-master-mane=“scrolling”/&gt;</a:t>
            </a:r>
            <a:endParaRPr b="0" lang="en-US" sz="2500" spc="-1" strike="noStrike">
              <a:solidFill>
                <a:srgbClr val="ffcc00"/>
              </a:solidFill>
              <a:latin typeface="Book Antiqua"/>
            </a:endParaRPr>
          </a:p>
          <a:p>
            <a:pPr lvl="1" marL="87624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cc00"/>
                </a:solidFill>
                <a:latin typeface="Courier New"/>
              </a:rPr>
              <a:t>&lt;fo:queue queue-name=“body”&gt;</a:t>
            </a:r>
            <a:endParaRPr b="0" lang="en-US" sz="2500" spc="-1" strike="noStrike">
              <a:solidFill>
                <a:srgbClr val="ffcc00"/>
              </a:solidFill>
              <a:latin typeface="Book Antiqua"/>
            </a:endParaRPr>
          </a:p>
          <a:p>
            <a:pPr lvl="2" marL="134964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cc00"/>
                </a:solidFill>
                <a:latin typeface="Courier New"/>
              </a:rPr>
              <a:t>xsl:apply-templates/&gt;</a:t>
            </a:r>
            <a:endParaRPr b="0" lang="en-US" sz="2500" spc="-1" strike="noStrike">
              <a:solidFill>
                <a:srgbClr val="ffcc00"/>
              </a:solidFill>
              <a:latin typeface="Book Antiqua"/>
            </a:endParaRPr>
          </a:p>
          <a:p>
            <a:pPr marL="438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Courier New"/>
              </a:rPr>
              <a:t>&lt;/fo:basic-page-sequence&gt;</a:t>
            </a:r>
            <a:endParaRPr b="0" lang="en-US" sz="2000" spc="-1" strike="noStrike">
              <a:solidFill>
                <a:srgbClr val="ffcc00"/>
              </a:solidFill>
              <a:latin typeface="Book Antiqua"/>
            </a:endParaRPr>
          </a:p>
          <a:p>
            <a:pPr marL="438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Courier New"/>
              </a:rPr>
              <a:t>&lt;/xsl:template&gt;</a:t>
            </a:r>
            <a:endParaRPr b="0" lang="en-US" sz="2000" spc="-1" strike="noStrike">
              <a:solidFill>
                <a:srgbClr val="ffcc00"/>
              </a:solidFill>
              <a:latin typeface="Book Antiqua"/>
            </a:endParaRPr>
          </a:p>
          <a:p>
            <a:pPr marL="438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ffcc00"/>
              </a:solidFill>
              <a:latin typeface="Book Antiqua"/>
            </a:endParaRPr>
          </a:p>
          <a:p>
            <a:pPr marL="4381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Courier New"/>
              </a:rPr>
              <a:t>&lt;/xsl:stylesheet&gt;</a:t>
            </a:r>
            <a:endParaRPr b="0" lang="en-US" sz="20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A32-6232-446B-93E4-1D2E7A0B2A4C}" type="slidenum">
              <a:t>36</a:t>
            </a:fld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Inserire fogli di stile in XML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811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ffcc00"/>
                </a:solidFill>
                <a:latin typeface="Book Antiqua"/>
              </a:rPr>
              <a:t>   </a:t>
            </a:r>
            <a:r>
              <a:rPr b="0" lang="it-IT" sz="2900" spc="-1" strike="noStrike">
                <a:solidFill>
                  <a:srgbClr val="ffcc00"/>
                </a:solidFill>
                <a:latin typeface="Book Antiqua"/>
              </a:rPr>
              <a:t>Lo stylesheet è un documento XML a parte</a:t>
            </a:r>
            <a:endParaRPr b="0" lang="en-US" sz="2900" spc="-1" strike="noStrike">
              <a:solidFill>
                <a:srgbClr val="ffcc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00"/>
                </a:solidFill>
                <a:latin typeface="Courier New"/>
              </a:rPr>
              <a:t>&lt;?xml-stylesheet type="text/xml" href="#</a:t>
            </a: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style1</a:t>
            </a:r>
            <a:r>
              <a:rPr b="0" lang="it-IT" sz="1800" spc="-1" strike="noStrike">
                <a:solidFill>
                  <a:srgbClr val="ffcc00"/>
                </a:solidFill>
                <a:latin typeface="Courier New"/>
              </a:rPr>
              <a:t>"?&gt;</a:t>
            </a:r>
            <a:br>
              <a:rPr sz="1800"/>
            </a:br>
            <a:r>
              <a:rPr b="0" lang="it-IT" sz="1800" spc="-1" strike="noStrike">
                <a:solidFill>
                  <a:srgbClr val="ffcc00"/>
                </a:solidFill>
                <a:latin typeface="Courier New"/>
              </a:rPr>
              <a:t>&lt;!DOCTYPE doc SYSTEM "doc.dtd"&gt;</a:t>
            </a:r>
            <a:br>
              <a:rPr sz="1800"/>
            </a:br>
            <a:r>
              <a:rPr b="0" lang="it-IT" sz="1800" spc="-1" strike="noStrike">
                <a:solidFill>
                  <a:srgbClr val="ffcc00"/>
                </a:solidFill>
                <a:latin typeface="Courier New"/>
              </a:rPr>
              <a:t>&lt;doc&gt; &lt;head&gt;</a:t>
            </a:r>
            <a:br>
              <a:rPr sz="1800"/>
            </a:br>
            <a:r>
              <a:rPr b="0" lang="it-IT" sz="1800" spc="-1" strike="noStrike">
                <a:solidFill>
                  <a:srgbClr val="ffcc00"/>
                </a:solidFill>
                <a:latin typeface="Courier New"/>
              </a:rPr>
              <a:t>&lt;xsl:stylesheet id="</a:t>
            </a:r>
            <a:r>
              <a:rPr b="1" lang="it-IT" sz="1800" spc="-1" strike="noStrike">
                <a:solidFill>
                  <a:srgbClr val="ffffff"/>
                </a:solidFill>
                <a:latin typeface="Courier New"/>
              </a:rPr>
              <a:t>style1</a:t>
            </a:r>
            <a:r>
              <a:rPr b="0" lang="it-IT" sz="1800" spc="-1" strike="noStrike">
                <a:solidFill>
                  <a:srgbClr val="ffcc00"/>
                </a:solidFill>
                <a:latin typeface="Courier New"/>
              </a:rPr>
              <a:t>” version="1.0"               xmlns:xsl="http://www.w3.org/1999/XSL/Transform” xmlns:fo="http://www.w3.org/1999/XSL/Format"&gt;</a:t>
            </a:r>
            <a:br>
              <a:rPr sz="1800"/>
            </a:br>
            <a:r>
              <a:rPr b="0" lang="it-IT" sz="1800" spc="-1" strike="noStrike">
                <a:solidFill>
                  <a:srgbClr val="ffcc00"/>
                </a:solidFill>
                <a:latin typeface="Courier New"/>
              </a:rPr>
              <a:t>&lt;xsl:import href="doc.xsl"/&gt;</a:t>
            </a:r>
            <a:br>
              <a:rPr sz="1800"/>
            </a:br>
            <a:r>
              <a:rPr b="0" lang="it-IT" sz="1800" spc="-1" strike="noStrike">
                <a:solidFill>
                  <a:srgbClr val="ffcc00"/>
                </a:solidFill>
                <a:latin typeface="Courier New"/>
              </a:rPr>
              <a:t>&lt;xsl:template match="id('foo')"&gt;</a:t>
            </a:r>
            <a:br>
              <a:rPr sz="1800"/>
            </a:br>
            <a:r>
              <a:rPr b="0" lang="it-IT" sz="1800" spc="-1" strike="noStrike">
                <a:solidFill>
                  <a:srgbClr val="ffcc00"/>
                </a:solidFill>
                <a:latin typeface="Courier New"/>
              </a:rPr>
              <a:t> &lt;fo:block font-weight="bold"&gt;&lt;xsl:apply-templates/&gt;&lt;/fo:block&gt;</a:t>
            </a:r>
            <a:br>
              <a:rPr sz="1800"/>
            </a:br>
            <a:r>
              <a:rPr b="0" lang="it-IT" sz="1800" spc="-1" strike="noStrike">
                <a:solidFill>
                  <a:srgbClr val="ffcc00"/>
                </a:solidFill>
                <a:latin typeface="Courier New"/>
              </a:rPr>
              <a:t>&lt;/xsl:template&gt;</a:t>
            </a:r>
            <a:br>
              <a:rPr sz="1800"/>
            </a:br>
            <a:r>
              <a:rPr b="0" lang="it-IT" sz="1800" spc="-1" strike="noStrike">
                <a:solidFill>
                  <a:srgbClr val="ffcc00"/>
                </a:solidFill>
                <a:latin typeface="Courier New"/>
              </a:rPr>
              <a:t>&lt;xsl:template match="xsl:stylesheet"&gt;</a:t>
            </a:r>
            <a:br>
              <a:rPr sz="1800"/>
            </a:br>
            <a:r>
              <a:rPr b="0" lang="it-IT" sz="1800" spc="-1" strike="noStrike">
                <a:solidFill>
                  <a:srgbClr val="ffcc00"/>
                </a:solidFill>
                <a:latin typeface="Courier New"/>
              </a:rPr>
              <a:t>&lt;/xsl:template&gt;</a:t>
            </a:r>
            <a:br>
              <a:rPr sz="1800"/>
            </a:br>
            <a:r>
              <a:rPr b="0" lang="it-IT" sz="1800" spc="-1" strike="noStrike">
                <a:solidFill>
                  <a:srgbClr val="ffcc00"/>
                </a:solidFill>
                <a:latin typeface="Courier New"/>
              </a:rPr>
              <a:t>&lt;/xsl:stylesheet&gt;</a:t>
            </a:r>
            <a:br>
              <a:rPr sz="1800"/>
            </a:br>
            <a:r>
              <a:rPr b="0" lang="it-IT" sz="1800" spc="-1" strike="noStrike">
                <a:solidFill>
                  <a:srgbClr val="ffcc00"/>
                </a:solidFill>
                <a:latin typeface="Courier New"/>
              </a:rPr>
              <a:t>&lt;/head&gt;</a:t>
            </a:r>
            <a:br>
              <a:rPr sz="1800"/>
            </a:br>
            <a:r>
              <a:rPr b="0" lang="it-IT" sz="1800" spc="-1" strike="noStrike">
                <a:solidFill>
                  <a:srgbClr val="ffcc00"/>
                </a:solidFill>
                <a:latin typeface="Courier New"/>
              </a:rPr>
              <a:t>&lt;body&gt; &lt;para id="foo"&gt; … &lt;/para&gt; &lt;/body&gt; &lt;/doc&gt;</a:t>
            </a:r>
            <a:endParaRPr b="0" lang="en-US" sz="18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021-9AAB-4454-BE7C-2CA232E8ACC3}" type="slidenum">
              <a:t>37</a:t>
            </a:fld>
          </a:p>
        </p:txBody>
      </p:sp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Book Antiqua"/>
              </a:rPr>
              <a:t>xsl, cap.5 da xml tascabile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39F-7BC2-4D37-B05C-F39BFECB554D}" type="slidenum">
              <a:t>38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Struttura e Rappresentazione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2380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In pratica un libro riporta </a:t>
            </a:r>
            <a:r>
              <a:rPr b="1" i="1" lang="en-US" sz="2700" spc="-1" strike="noStrike">
                <a:solidFill>
                  <a:srgbClr val="ffffff"/>
                </a:solidFill>
                <a:latin typeface="Book Antiqua"/>
              </a:rPr>
              <a:t>informazioni strutturate gerarchicamente</a:t>
            </a:r>
            <a:r>
              <a:rPr b="1" lang="en-US" sz="27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in modo da risultare funzionali al suo accesso, 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2750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Book Antiqua"/>
              </a:rPr>
              <a:t>questo a prescindere dalla casa editrice, dalla tipologia estetica, 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Book Antiqua"/>
              </a:rPr>
              <a:t>dal colore della carta e dal font usato, 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6749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A prescindere dalla sua </a:t>
            </a:r>
            <a:r>
              <a:rPr b="1" lang="en-US" sz="2700" spc="-1" strike="noStrike">
                <a:solidFill>
                  <a:srgbClr val="ffffff"/>
                </a:solidFill>
                <a:latin typeface="Book Antiqua"/>
              </a:rPr>
              <a:t>rappresentazione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619-C71D-4B5D-870E-AB4F7BBFDAB6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Struttura e Rappresentazione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Per i testi elettronici il discorso è lo stesso: 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2750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Book Antiqua"/>
              </a:rPr>
              <a:t>Esiste un </a:t>
            </a: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contenuto</a:t>
            </a:r>
            <a:r>
              <a:rPr b="0" lang="en-US" sz="2200" spc="-1" strike="noStrike">
                <a:solidFill>
                  <a:srgbClr val="ffcc00"/>
                </a:solidFill>
                <a:latin typeface="Book Antiqua"/>
              </a:rPr>
              <a:t>, 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Book Antiqua"/>
              </a:rPr>
              <a:t>la sua </a:t>
            </a: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struttura</a:t>
            </a:r>
            <a:r>
              <a:rPr b="0" lang="en-US" sz="2200" spc="-1" strike="noStrike">
                <a:solidFill>
                  <a:srgbClr val="ffcc00"/>
                </a:solidFill>
                <a:latin typeface="Book Antiqua"/>
              </a:rPr>
              <a:t> e 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Book Antiqua"/>
              </a:rPr>
              <a:t>la </a:t>
            </a: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rappresentazione</a:t>
            </a:r>
            <a:r>
              <a:rPr b="0" lang="en-US" sz="2200" spc="-1" strike="noStrike">
                <a:solidFill>
                  <a:srgbClr val="ffcc00"/>
                </a:solidFill>
                <a:latin typeface="Book Antiqua"/>
              </a:rPr>
              <a:t> che di volta in volta si realizza. 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6749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quando si fruisce di un testo, di qualunque natura esso sia, entrano in gioco i tre livelli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06B-CC38-408A-A524-6A104FF15A2A}" type="slidenum">
              <a:t>5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7640" y="18216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lettura </a:t>
            </a:r>
            <a:r>
              <a:rPr b="0" lang="it-IT" sz="27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creazione della conoscenza 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libro </a:t>
            </a:r>
            <a:r>
              <a:rPr b="0" lang="it-IT" sz="27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informazione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contenuto </a:t>
            </a:r>
            <a:r>
              <a:rPr b="0" lang="it-IT" sz="27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 dati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struttura </a:t>
            </a:r>
            <a:r>
              <a:rPr b="0" lang="it-IT" sz="27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 metadati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rappresentazione </a:t>
            </a:r>
            <a:r>
              <a:rPr b="0" lang="it-IT" sz="27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 manipolazione dei dati e dei relativi metadati per fruire di una o più parti dell’informazione in maniera “critica”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5E4-2A50-4DC7-827C-85F2D1C1BC14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Struttura e Rappresentazione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52240" y="1238040"/>
            <a:ext cx="809604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In fase di progettazione un titolo è tale a prescindere dal tipo di carattere usato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La rappresentazione può essere utile 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Book Antiqua"/>
              </a:rPr>
              <a:t>in fase di individuazione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Book Antiqua"/>
              </a:rPr>
              <a:t>per migliorare la leggibilità di un testo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lvl="1" marL="952560" indent="-285840">
              <a:spcBef>
                <a:spcPts val="825"/>
              </a:spcBef>
              <a:buClr>
                <a:srgbClr val="ffffff"/>
              </a:buClr>
              <a:buFont typeface="Monotype Sorts" charset="2"/>
              <a:buChar char="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Book Antiqua"/>
              </a:rPr>
              <a:t>per favorire la percezione della struttura e del suo rapporto con il testo</a:t>
            </a:r>
            <a:endParaRPr b="0" lang="en-US" sz="2200" spc="-1" strike="noStrike">
              <a:solidFill>
                <a:srgbClr val="ffcc00"/>
              </a:solidFill>
              <a:latin typeface="Book Antiqua"/>
            </a:endParaRPr>
          </a:p>
          <a:p>
            <a:pPr marL="476280" indent="-4762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Book Antiqua"/>
              </a:rPr>
              <a:t>Struttura e Rappresentazione di un contenuto sono due cose assolutamente separate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D60-1C64-492C-B396-8A945CDA845F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Ipertesto: una definizione</a:t>
            </a:r>
            <a:endParaRPr b="1" i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2240" y="1314360"/>
            <a:ext cx="809604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 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Theodor  Nelson  - termine ipertesto nel ‘65: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Book Antiqua"/>
              </a:rPr>
              <a:t>" </a:t>
            </a:r>
            <a:r>
              <a:rPr b="0" i="1" lang="it-IT" sz="2400" spc="-1" strike="noStrike">
                <a:solidFill>
                  <a:srgbClr val="ffcc00"/>
                </a:solidFill>
                <a:latin typeface="Book Antiqua"/>
              </a:rPr>
              <a:t>Lasciate che io introduca il termine "ipertesto" per rappresentare un insieme di materiale scritto o figurato </a:t>
            </a:r>
            <a:r>
              <a:rPr b="1" i="1" lang="it-IT" sz="2400" spc="-1" strike="noStrike">
                <a:solidFill>
                  <a:srgbClr val="ffcc00"/>
                </a:solidFill>
                <a:latin typeface="Book Antiqua"/>
              </a:rPr>
              <a:t>interconnesso </a:t>
            </a:r>
            <a:r>
              <a:rPr b="0" i="1" lang="it-IT" sz="2400" spc="-1" strike="noStrike">
                <a:solidFill>
                  <a:srgbClr val="ffcc00"/>
                </a:solidFill>
                <a:latin typeface="Book Antiqua"/>
              </a:rPr>
              <a:t>in un modo così complesso da non poter essere rappresentato su carta. “</a:t>
            </a:r>
            <a:endParaRPr b="0" lang="en-US" sz="24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5C87-E45C-4C67-A0D5-D1DE015A90BF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764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Ipertesto 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(non confondetelo con multimediale)</a:t>
            </a:r>
            <a:endParaRPr b="1" i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2240" y="1371240"/>
            <a:ext cx="8096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61880" indent="-4618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"</a:t>
            </a:r>
            <a:r>
              <a:rPr b="0" i="1" lang="it-IT" sz="2700" spc="-1" strike="noStrike">
                <a:solidFill>
                  <a:srgbClr val="ffcc00"/>
                </a:solidFill>
                <a:latin typeface="Book Antiqua"/>
              </a:rPr>
              <a:t>iper</a:t>
            </a: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" : ha il significato di estensione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61880" indent="-4618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Può contenere sommari o mappe dei contenuti 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61880" indent="-4618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Può contenere annotazioni, note a fondo pagina, parti nascoste ad alcuni utenti e non ad altri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61880" indent="-4618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consente la distribuzione ma non la dispersione dei contenuti 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  <a:p>
            <a:pPr marL="461880" indent="-461880">
              <a:spcBef>
                <a:spcPts val="1687"/>
              </a:spcBef>
              <a:buClr>
                <a:srgbClr val="ffffff"/>
              </a:buClr>
              <a:buFont typeface="Monotype Sor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cc00"/>
                </a:solidFill>
                <a:latin typeface="Book Antiqua"/>
              </a:rPr>
              <a:t>consente di superare la fruizione lineare della informazione contenuta in un testo</a:t>
            </a:r>
            <a:endParaRPr b="0" lang="en-US" sz="27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2CA-DD2D-44D5-BA0E-709F2955D5D3}" type="slidenum">
              <a:t>9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5T10:12:06Z</dcterms:created>
  <dc:creator>Laura Papaleo</dc:creator>
  <dc:description/>
  <dc:language>en-US</dc:language>
  <cp:lastModifiedBy>francesco cutugno</cp:lastModifiedBy>
  <dcterms:modified xsi:type="dcterms:W3CDTF">2004-12-09T11:14:58Z</dcterms:modified>
  <cp:revision>115</cp:revision>
  <dc:subject/>
  <dc:title>XML - eXtensible Markup Language</dc:title>
</cp:coreProperties>
</file>