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06C-9485-48E0-AEB4-386BC6EB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61B-C9BF-45C9-915B-64D5BB1C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F71-66E8-4701-8A7B-51E2D09C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EBF-D51E-4B17-96E3-E702965C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C78-94F7-46B7-9CD3-FDD7FEEA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A9F-DE59-4655-B5AD-D45CFEFC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0F5-CA1E-4611-B131-6CA3D579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169-A444-4A94-8D44-C87BEA1E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303-E34C-4593-9515-CD7A9263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652-2DA6-4FEE-955C-AE15C055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478-F681-4A51-902E-A127918D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D3D-C386-44F7-A0F4-FBD0B327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0562-67C0-4242-936B-C7E9EADDF5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Base di dat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ieme organizzato di dati utilizzati per il supporto allo svolgimento di attività (di un ente, azienda, ufficio, person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DBM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Prodotti software (complessi) disponibili sul mercato; esempi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B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nform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yb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QLSer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8091360" y="5700600"/>
            <a:ext cx="44316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Le basi di dati sono ... grand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mensioni (molto) maggiori della memoria centrale dei sistemi di calcolo utilizza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l limite deve essere solo quello fisico dei dispositiv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91360" y="5700600"/>
            <a:ext cx="44316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Le basi di dati sono ... persistent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hanno un tempo di vita indipendente dalle singole esecuzioni dei programmi che le utilizzan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91360" y="5700600"/>
            <a:ext cx="44316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Le basi di dati sono ... condivise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gni organizzazione (specie se grande) è divisa in settori o comunque svolge diverse attività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iascun settore/attività ha un (sotto)sistema informativo (non necessariamente disgiunto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Problem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idondanz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zioni ripetu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schio di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ncoerenz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versioni possono non coincid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Archivi e basi di dati 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4254480"/>
            <a:ext cx="2895480" cy="1295280"/>
          </a:xfrm>
          <a:prstGeom prst="rect">
            <a:avLst/>
          </a:prstGeom>
          <a:solidFill>
            <a:srgbClr val="3333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stion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cev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038480" y="3949560"/>
            <a:ext cx="4343400" cy="1752840"/>
            <a:chOff x="4038480" y="3949560"/>
            <a:chExt cx="4343400" cy="1752840"/>
          </a:xfrm>
        </p:grpSpPr>
        <p:sp>
          <p:nvSpPr>
            <p:cNvPr id="75" name=""/>
            <p:cNvSpPr/>
            <p:nvPr/>
          </p:nvSpPr>
          <p:spPr>
            <a:xfrm>
              <a:off x="5638680" y="3949560"/>
              <a:ext cx="2743200" cy="1752840"/>
            </a:xfrm>
            <a:prstGeom prst="flowChartMagneticDisk">
              <a:avLst/>
            </a:prstGeom>
            <a:solidFill>
              <a:srgbClr val="3333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rchivio 2: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iceviment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38480" y="501660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143000" y="2120760"/>
            <a:ext cx="2895480" cy="1295640"/>
          </a:xfrm>
          <a:prstGeom prst="rect">
            <a:avLst/>
          </a:prstGeom>
          <a:solidFill>
            <a:srgbClr val="3333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stion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ario lezi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038480" y="1892160"/>
            <a:ext cx="4343400" cy="1752840"/>
            <a:chOff x="4038480" y="1892160"/>
            <a:chExt cx="4343400" cy="1752840"/>
          </a:xfrm>
        </p:grpSpPr>
        <p:sp>
          <p:nvSpPr>
            <p:cNvPr id="79" name=""/>
            <p:cNvSpPr/>
            <p:nvPr/>
          </p:nvSpPr>
          <p:spPr>
            <a:xfrm>
              <a:off x="5638680" y="1892160"/>
              <a:ext cx="2743200" cy="1752840"/>
            </a:xfrm>
            <a:prstGeom prst="flowChartMagneticDisk">
              <a:avLst/>
            </a:prstGeom>
            <a:solidFill>
              <a:srgbClr val="3333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Archivio 1: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orario lezioni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38480" y="2882880"/>
              <a:ext cx="160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Archivi e basi di dati 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143000" y="2120760"/>
            <a:ext cx="7251840" cy="3429000"/>
            <a:chOff x="1143000" y="2120760"/>
            <a:chExt cx="7251840" cy="3429000"/>
          </a:xfrm>
        </p:grpSpPr>
        <p:sp>
          <p:nvSpPr>
            <p:cNvPr id="83" name=""/>
            <p:cNvSpPr/>
            <p:nvPr/>
          </p:nvSpPr>
          <p:spPr>
            <a:xfrm>
              <a:off x="1143000" y="4254480"/>
              <a:ext cx="2895480" cy="1295280"/>
            </a:xfrm>
            <a:prstGeom prst="rect">
              <a:avLst/>
            </a:prstGeom>
            <a:solidFill>
              <a:srgbClr val="3333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Gestione 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iceviment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2120760"/>
              <a:ext cx="2895480" cy="1295640"/>
            </a:xfrm>
            <a:prstGeom prst="rect">
              <a:avLst/>
            </a:prstGeom>
            <a:solidFill>
              <a:srgbClr val="3333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Gestione 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orario lezioni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23040" y="2514600"/>
              <a:ext cx="2971800" cy="2514600"/>
            </a:xfrm>
            <a:prstGeom prst="flowChartMagneticDisk">
              <a:avLst/>
            </a:prstGeom>
            <a:solidFill>
              <a:srgbClr val="3333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Base di dati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78440" y="2895480"/>
              <a:ext cx="1344600" cy="685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078440" y="3962160"/>
              <a:ext cx="1344600" cy="1066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Le basi di dati sono condivise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Una base di dati e' una risorsa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integrata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condivisa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fra applicazion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nseguen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ttivita' diverse su dati condivisi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eccanismi di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autorizzazi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essi di più utenti ai dati condivisi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ntrollo della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concorren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91360" y="5700600"/>
            <a:ext cx="44316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I DBMS debbono essere...efficient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ercano di utilizzando al meglio le risorse di spazio di memoria (principale e secondaria) e tempo (di esecuzione e di rispost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 DBMS, con tante funzioni, rischiano l'inefficienza e per questo ci sono grandi investimenti e competizi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L’efficienza è anche il risultato della qualità delle applicazio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91360" y="5700600"/>
            <a:ext cx="44316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scrizioni dei dati nei DBM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appresentazioni dei dati a livelli divers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ermettono l’</a:t>
            </a: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indipendenza dei dati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dalla rappresentazione fisica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i programmi fanno riferimento alla struttura a livello più alto, e le rappresentazioni sottostanti possono essere modificate senza necessità di modifica dei programm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ecisiamo attraverso il concetto di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modello dei da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Gestione delle informazioni 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accolta, acquisizi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rchiviazione, conservazi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laborazione, trasformazione, produzi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zione, comunicazione, scamb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Organizzazione dei dati in una base di dat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6880" y="1676520"/>
            <a:ext cx="7251840" cy="990360"/>
            <a:chOff x="596880" y="1676520"/>
            <a:chExt cx="7251840" cy="990360"/>
          </a:xfrm>
        </p:grpSpPr>
        <p:sp>
          <p:nvSpPr>
            <p:cNvPr id="98" name=""/>
            <p:cNvSpPr/>
            <p:nvPr/>
          </p:nvSpPr>
          <p:spPr>
            <a:xfrm>
              <a:off x="596880" y="1676520"/>
              <a:ext cx="10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a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62120" y="2133720"/>
              <a:ext cx="7086600" cy="533160"/>
              <a:chOff x="762120" y="2133720"/>
              <a:chExt cx="7086600" cy="533160"/>
            </a:xfrm>
          </p:grpSpPr>
          <p:sp>
            <p:nvSpPr>
              <p:cNvPr id="100" name=""/>
              <p:cNvSpPr/>
              <p:nvPr/>
            </p:nvSpPr>
            <p:spPr>
              <a:xfrm>
                <a:off x="762120" y="2133720"/>
                <a:ext cx="2743200" cy="533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segnament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05320" y="2133720"/>
                <a:ext cx="1828800" cy="533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oce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2133720"/>
                <a:ext cx="1066680" cy="533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l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00800" y="2133720"/>
                <a:ext cx="1447920" cy="533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r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762120" y="2666880"/>
            <a:ext cx="7086600" cy="3200400"/>
            <a:chOff x="762120" y="2666880"/>
            <a:chExt cx="7086600" cy="3200400"/>
          </a:xfrm>
        </p:grpSpPr>
        <p:grpSp>
          <p:nvGrpSpPr>
            <p:cNvPr id="105" name=""/>
            <p:cNvGrpSpPr/>
            <p:nvPr/>
          </p:nvGrpSpPr>
          <p:grpSpPr>
            <a:xfrm>
              <a:off x="762120" y="2666880"/>
              <a:ext cx="7086600" cy="533160"/>
              <a:chOff x="762120" y="2666880"/>
              <a:chExt cx="7086600" cy="533160"/>
            </a:xfrm>
          </p:grpSpPr>
          <p:sp>
            <p:nvSpPr>
              <p:cNvPr id="106" name=""/>
              <p:cNvSpPr/>
              <p:nvPr/>
            </p:nvSpPr>
            <p:spPr>
              <a:xfrm>
                <a:off x="762120" y="266688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Analisi matem. 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05320" y="266688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uigi Ne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34120" y="266688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00800" y="266688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: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62120" y="3200400"/>
              <a:ext cx="7086600" cy="533160"/>
              <a:chOff x="762120" y="3200400"/>
              <a:chExt cx="7086600" cy="533160"/>
            </a:xfrm>
          </p:grpSpPr>
          <p:sp>
            <p:nvSpPr>
              <p:cNvPr id="111" name=""/>
              <p:cNvSpPr/>
              <p:nvPr/>
            </p:nvSpPr>
            <p:spPr>
              <a:xfrm>
                <a:off x="762120" y="320040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asi di dat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05320" y="320040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iero 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4120" y="320040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400800" y="320040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:4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2120" y="3733920"/>
              <a:ext cx="7086600" cy="533160"/>
              <a:chOff x="762120" y="3733920"/>
              <a:chExt cx="7086600" cy="533160"/>
            </a:xfrm>
          </p:grpSpPr>
          <p:sp>
            <p:nvSpPr>
              <p:cNvPr id="116" name=""/>
              <p:cNvSpPr/>
              <p:nvPr/>
            </p:nvSpPr>
            <p:spPr>
              <a:xfrm>
                <a:off x="762120" y="373392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imic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05320" y="373392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icola Mo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34120" y="373392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00800" y="373392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:4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762120" y="4267080"/>
              <a:ext cx="7086600" cy="533160"/>
              <a:chOff x="762120" y="4267080"/>
              <a:chExt cx="7086600" cy="533160"/>
            </a:xfrm>
          </p:grpSpPr>
          <p:sp>
            <p:nvSpPr>
              <p:cNvPr id="121" name=""/>
              <p:cNvSpPr/>
              <p:nvPr/>
            </p:nvSpPr>
            <p:spPr>
              <a:xfrm>
                <a:off x="762120" y="426708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sica 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505320" y="426708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 Brun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4120" y="426708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400800" y="426708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1:4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62120" y="4800600"/>
              <a:ext cx="7086600" cy="533160"/>
              <a:chOff x="762120" y="4800600"/>
              <a:chExt cx="7086600" cy="533160"/>
            </a:xfrm>
          </p:grpSpPr>
          <p:sp>
            <p:nvSpPr>
              <p:cNvPr id="126" name=""/>
              <p:cNvSpPr/>
              <p:nvPr/>
            </p:nvSpPr>
            <p:spPr>
              <a:xfrm>
                <a:off x="762120" y="480060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sica I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5320" y="480060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 Brun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34120" y="480060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00800" y="480060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:4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62120" y="5334120"/>
              <a:ext cx="7086600" cy="533160"/>
              <a:chOff x="762120" y="5334120"/>
              <a:chExt cx="7086600" cy="533160"/>
            </a:xfrm>
          </p:grpSpPr>
          <p:sp>
            <p:nvSpPr>
              <p:cNvPr id="131" name=""/>
              <p:cNvSpPr/>
              <p:nvPr/>
            </p:nvSpPr>
            <p:spPr>
              <a:xfrm>
                <a:off x="762120" y="533412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Sistemi inform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05320" y="533412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iero 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4120" y="533412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400800" y="533412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: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31560" y="5821200"/>
            <a:ext cx="52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'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stanz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lla base di d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5200" y="1189080"/>
            <a:ext cx="56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chem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lla base di d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6880" y="1676520"/>
            <a:ext cx="7251840" cy="990360"/>
            <a:chOff x="596880" y="1676520"/>
            <a:chExt cx="7251840" cy="990360"/>
          </a:xfrm>
        </p:grpSpPr>
        <p:sp>
          <p:nvSpPr>
            <p:cNvPr id="138" name=""/>
            <p:cNvSpPr/>
            <p:nvPr/>
          </p:nvSpPr>
          <p:spPr>
            <a:xfrm>
              <a:off x="596880" y="1676520"/>
              <a:ext cx="10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ra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62120" y="2133720"/>
              <a:ext cx="7086600" cy="533160"/>
              <a:chOff x="762120" y="2133720"/>
              <a:chExt cx="7086600" cy="533160"/>
            </a:xfrm>
          </p:grpSpPr>
          <p:sp>
            <p:nvSpPr>
              <p:cNvPr id="140" name=""/>
              <p:cNvSpPr/>
              <p:nvPr/>
            </p:nvSpPr>
            <p:spPr>
              <a:xfrm>
                <a:off x="762120" y="2133720"/>
                <a:ext cx="2743200" cy="533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segnament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05320" y="2133720"/>
                <a:ext cx="1828800" cy="533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oce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34120" y="2133720"/>
                <a:ext cx="1066680" cy="533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l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400800" y="2133720"/>
                <a:ext cx="1447920" cy="533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r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762120" y="2666880"/>
            <a:ext cx="7086600" cy="3200400"/>
            <a:chOff x="762120" y="2666880"/>
            <a:chExt cx="7086600" cy="3200400"/>
          </a:xfrm>
        </p:grpSpPr>
        <p:grpSp>
          <p:nvGrpSpPr>
            <p:cNvPr id="145" name=""/>
            <p:cNvGrpSpPr/>
            <p:nvPr/>
          </p:nvGrpSpPr>
          <p:grpSpPr>
            <a:xfrm>
              <a:off x="762120" y="2666880"/>
              <a:ext cx="7086600" cy="533160"/>
              <a:chOff x="762120" y="2666880"/>
              <a:chExt cx="7086600" cy="533160"/>
            </a:xfrm>
          </p:grpSpPr>
          <p:sp>
            <p:nvSpPr>
              <p:cNvPr id="146" name=""/>
              <p:cNvSpPr/>
              <p:nvPr/>
            </p:nvSpPr>
            <p:spPr>
              <a:xfrm>
                <a:off x="762120" y="266688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Analisi matem. 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05320" y="266688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uigi Ne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34120" y="266688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00800" y="266688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: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62120" y="3200400"/>
              <a:ext cx="7086600" cy="533160"/>
              <a:chOff x="762120" y="3200400"/>
              <a:chExt cx="7086600" cy="533160"/>
            </a:xfrm>
          </p:grpSpPr>
          <p:sp>
            <p:nvSpPr>
              <p:cNvPr id="151" name=""/>
              <p:cNvSpPr/>
              <p:nvPr/>
            </p:nvSpPr>
            <p:spPr>
              <a:xfrm>
                <a:off x="762120" y="320040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asi di dat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05320" y="320040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iero 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4120" y="320040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800" y="320040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:4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62120" y="3733920"/>
              <a:ext cx="7086600" cy="533160"/>
              <a:chOff x="762120" y="3733920"/>
              <a:chExt cx="7086600" cy="533160"/>
            </a:xfrm>
          </p:grpSpPr>
          <p:sp>
            <p:nvSpPr>
              <p:cNvPr id="156" name=""/>
              <p:cNvSpPr/>
              <p:nvPr/>
            </p:nvSpPr>
            <p:spPr>
              <a:xfrm>
                <a:off x="762120" y="373392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imic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05320" y="373392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icola Mo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34120" y="373392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00800" y="373392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:4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62120" y="4267080"/>
              <a:ext cx="7086600" cy="533160"/>
              <a:chOff x="762120" y="4267080"/>
              <a:chExt cx="7086600" cy="533160"/>
            </a:xfrm>
          </p:grpSpPr>
          <p:sp>
            <p:nvSpPr>
              <p:cNvPr id="161" name=""/>
              <p:cNvSpPr/>
              <p:nvPr/>
            </p:nvSpPr>
            <p:spPr>
              <a:xfrm>
                <a:off x="762120" y="426708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sica 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05320" y="426708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 Brun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4120" y="426708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00800" y="426708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1:4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762120" y="4800600"/>
              <a:ext cx="7086600" cy="533160"/>
              <a:chOff x="762120" y="4800600"/>
              <a:chExt cx="7086600" cy="533160"/>
            </a:xfrm>
          </p:grpSpPr>
          <p:sp>
            <p:nvSpPr>
              <p:cNvPr id="166" name=""/>
              <p:cNvSpPr/>
              <p:nvPr/>
            </p:nvSpPr>
            <p:spPr>
              <a:xfrm>
                <a:off x="762120" y="480060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sica I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05320" y="480060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 Brun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34120" y="480060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80060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:4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62120" y="5334120"/>
              <a:ext cx="7086600" cy="533160"/>
              <a:chOff x="762120" y="5334120"/>
              <a:chExt cx="7086600" cy="533160"/>
            </a:xfrm>
          </p:grpSpPr>
          <p:sp>
            <p:nvSpPr>
              <p:cNvPr id="171" name=""/>
              <p:cNvSpPr/>
              <p:nvPr/>
            </p:nvSpPr>
            <p:spPr>
              <a:xfrm>
                <a:off x="762120" y="5334120"/>
                <a:ext cx="27432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Sistemi inform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05320" y="5334120"/>
                <a:ext cx="182880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iero 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334120" y="5334120"/>
                <a:ext cx="106668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400800" y="5334120"/>
                <a:ext cx="1447920" cy="533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: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Basi di dati: schema e istanza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Schema e istanza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In ogni base di dati esiston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lo </a:t>
            </a: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schema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, sostanzialmente invariante nel tempo, che ne descrive la struttura (aspetto intensiona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s.: le intestazioni delle tabel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istanza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, i valori attuali, che possono cambiare anche molto rapidamente (aspetto estensiona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s.: il “corpo” di ciascuna tabell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61760" y="5715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Due tipi (principali) di modell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odelli logi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odelli concettual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Modelli logic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dottati nei DBMS esistenti per l’organizzazione dei da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utilizzati dai programm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ndipendenti dalle strutture fisich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sempi: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relazionale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, reticolare, gerarchico, a oggett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91360" y="5700600"/>
            <a:ext cx="44316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Modelli concettual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Permettono di rappresentare i dati in modo indipendente da ogni siste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ercano di descrivere i concetti del mondo re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ono utilizzati nelle fasi preliminari di progettazi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l più diffuso è il modello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Entity-Relationship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Architettura (semplificata) di un DBM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971800" y="1676520"/>
            <a:ext cx="3219480" cy="4495680"/>
            <a:chOff x="2971800" y="1676520"/>
            <a:chExt cx="3219480" cy="4495680"/>
          </a:xfrm>
        </p:grpSpPr>
        <p:sp>
          <p:nvSpPr>
            <p:cNvPr id="188" name=""/>
            <p:cNvSpPr/>
            <p:nvPr/>
          </p:nvSpPr>
          <p:spPr>
            <a:xfrm>
              <a:off x="3857760" y="5354640"/>
              <a:ext cx="1449360" cy="81756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71800" y="2549520"/>
              <a:ext cx="3219480" cy="870120"/>
            </a:xfrm>
            <a:prstGeom prst="rect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chema log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71800" y="4125960"/>
              <a:ext cx="3219480" cy="755640"/>
            </a:xfrm>
            <a:prstGeom prst="rect">
              <a:avLst/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chema intern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9" idx="2"/>
              <a:endCxn id="190" idx="0"/>
            </p:cNvCxnSpPr>
            <p:nvPr/>
          </p:nvCxnSpPr>
          <p:spPr>
            <a:xfrm>
              <a:off x="4581000" y="3438000"/>
              <a:ext cx="1080" cy="6692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92" name=""/>
            <p:cNvSpPr/>
            <p:nvPr/>
          </p:nvSpPr>
          <p:spPr>
            <a:xfrm>
              <a:off x="3857760" y="1676520"/>
              <a:ext cx="14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ten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192" idx="2"/>
              <a:endCxn id="189" idx="0"/>
            </p:cNvCxnSpPr>
            <p:nvPr/>
          </p:nvCxnSpPr>
          <p:spPr>
            <a:xfrm flipH="1">
              <a:off x="4580640" y="2195640"/>
              <a:ext cx="2520" cy="3355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194" name=""/>
            <p:cNvCxnSpPr>
              <a:stCxn id="190" idx="2"/>
              <a:endCxn id="188" idx="1"/>
            </p:cNvCxnSpPr>
            <p:nvPr/>
          </p:nvCxnSpPr>
          <p:spPr>
            <a:xfrm>
              <a:off x="4581000" y="4900680"/>
              <a:ext cx="2520" cy="4370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Architettura semplificata di un DBMS: schem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schema logico</a:t>
            </a:r>
            <a:r>
              <a:rPr b="1" lang="de-DE" sz="3200" spc="-1" strike="noStrike">
                <a:solidFill>
                  <a:srgbClr val="ffffff"/>
                </a:solidFill>
                <a:latin typeface="Tms New Roman"/>
              </a:rPr>
              <a:t>: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  descrizione della base di dati nel modello logico (ad esempio, la struttura della tabell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schema interno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(o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 fisico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de-DE" sz="3200" spc="-1" strike="noStrike">
                <a:solidFill>
                  <a:srgbClr val="ffffff"/>
                </a:solidFill>
                <a:latin typeface="Tms New Roman"/>
              </a:rPr>
              <a:t>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appresentazione dello schema logico per mezzo di strutture memorizzazione (file; ad esempio, record con puntatori, ordinati in un certo mod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Indipendenza dei dati 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l livello logico è indipendente da quello fis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una tabella è utilizzata nello stesso modo qualunque sia la sua realizzazione fisica (che può anche cambiare nel temp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Perciò in questo corso vedremo solo il livello logico e non quello fis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Architettura standard (ANSI/SPARC)</a:t>
            </a:r>
            <a:br>
              <a:rPr sz="3600"/>
            </a:b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a tre livelli per DBM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3880" y="2438280"/>
            <a:ext cx="6294600" cy="3733560"/>
            <a:chOff x="1523880" y="2438280"/>
            <a:chExt cx="6294600" cy="3733560"/>
          </a:xfrm>
        </p:grpSpPr>
        <p:sp>
          <p:nvSpPr>
            <p:cNvPr id="201" name=""/>
            <p:cNvSpPr/>
            <p:nvPr/>
          </p:nvSpPr>
          <p:spPr>
            <a:xfrm>
              <a:off x="4181400" y="5571720"/>
              <a:ext cx="990720" cy="600120"/>
            </a:xfrm>
            <a:prstGeom prst="can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14520" y="3646800"/>
              <a:ext cx="2724120" cy="5371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chema logic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3880" y="2438280"/>
              <a:ext cx="1646280" cy="671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3" idx="2"/>
              <a:endCxn id="202" idx="0"/>
            </p:cNvCxnSpPr>
            <p:nvPr/>
          </p:nvCxnSpPr>
          <p:spPr>
            <a:xfrm>
              <a:off x="2347560" y="3109320"/>
              <a:ext cx="2329560" cy="537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5" name=""/>
            <p:cNvCxnSpPr>
              <a:stCxn id="206" idx="2"/>
              <a:endCxn id="202" idx="0"/>
            </p:cNvCxnSpPr>
            <p:nvPr/>
          </p:nvCxnSpPr>
          <p:spPr>
            <a:xfrm>
              <a:off x="4671720" y="3109320"/>
              <a:ext cx="5400" cy="537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07" name=""/>
            <p:cNvCxnSpPr>
              <a:stCxn id="208" idx="2"/>
              <a:endCxn id="202" idx="0"/>
            </p:cNvCxnSpPr>
            <p:nvPr/>
          </p:nvCxnSpPr>
          <p:spPr>
            <a:xfrm flipH="1">
              <a:off x="4676400" y="3109320"/>
              <a:ext cx="2319840" cy="537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3314520" y="4654080"/>
              <a:ext cx="2724120" cy="5371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chema inter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48040" y="2438280"/>
              <a:ext cx="1646280" cy="671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2200" y="2438280"/>
              <a:ext cx="1646280" cy="671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2" idx="2"/>
              <a:endCxn id="209" idx="0"/>
            </p:cNvCxnSpPr>
            <p:nvPr/>
          </p:nvCxnSpPr>
          <p:spPr>
            <a:xfrm>
              <a:off x="4676400" y="4183920"/>
              <a:ext cx="1080" cy="470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11" name=""/>
            <p:cNvCxnSpPr>
              <a:stCxn id="209" idx="2"/>
              <a:endCxn id="201" idx="1"/>
            </p:cNvCxnSpPr>
            <p:nvPr/>
          </p:nvCxnSpPr>
          <p:spPr>
            <a:xfrm>
              <a:off x="4676400" y="5191560"/>
              <a:ext cx="1080" cy="380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cxnSp>
        <p:nvCxnSpPr>
          <p:cNvPr id="212" name=""/>
          <p:cNvCxnSpPr>
            <a:stCxn id="203" idx="0"/>
          </p:cNvCxnSpPr>
          <p:nvPr/>
        </p:nvCxnSpPr>
        <p:spPr>
          <a:xfrm flipH="1" flipV="1">
            <a:off x="1790280" y="2133360"/>
            <a:ext cx="55800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3" name=""/>
          <p:cNvCxnSpPr>
            <a:stCxn id="203" idx="0"/>
            <a:endCxn id="214" idx="2"/>
          </p:cNvCxnSpPr>
          <p:nvPr/>
        </p:nvCxnSpPr>
        <p:spPr>
          <a:xfrm flipV="1">
            <a:off x="2347920" y="1890000"/>
            <a:ext cx="729360" cy="548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5" name=""/>
          <p:cNvCxnSpPr>
            <a:stCxn id="206" idx="0"/>
            <a:endCxn id="216" idx="2"/>
          </p:cNvCxnSpPr>
          <p:nvPr/>
        </p:nvCxnSpPr>
        <p:spPr>
          <a:xfrm flipV="1">
            <a:off x="4671720" y="2042640"/>
            <a:ext cx="5400" cy="396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1388160" y="176364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32680" y="149400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32880" y="164628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08" idx="0"/>
            <a:endCxn id="219" idx="2"/>
          </p:cNvCxnSpPr>
          <p:nvPr/>
        </p:nvCxnSpPr>
        <p:spPr>
          <a:xfrm flipH="1" flipV="1">
            <a:off x="6581160" y="1890000"/>
            <a:ext cx="415080" cy="548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6137640" y="149400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09240" y="149400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08" idx="0"/>
            <a:endCxn id="220" idx="2"/>
          </p:cNvCxnSpPr>
          <p:nvPr/>
        </p:nvCxnSpPr>
        <p:spPr>
          <a:xfrm flipV="1">
            <a:off x="6995880" y="1890000"/>
            <a:ext cx="957960" cy="548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Gestione delle informazioni 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elle attività umane, le informazioni vengono gestite in forme divers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idee informali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linguaggio naturale (scritto o parlato, formale o colloquiale, in varie lingue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isegni, grafici, schemi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umeri e codi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 su vari suppor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mente umana, carta, dispositivi elettroni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Una vista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04920" y="1146240"/>
            <a:ext cx="3962160" cy="2739240"/>
            <a:chOff x="304920" y="1146240"/>
            <a:chExt cx="3962160" cy="2739240"/>
          </a:xfrm>
        </p:grpSpPr>
        <p:grpSp>
          <p:nvGrpSpPr>
            <p:cNvPr id="224" name=""/>
            <p:cNvGrpSpPr/>
            <p:nvPr/>
          </p:nvGrpSpPr>
          <p:grpSpPr>
            <a:xfrm>
              <a:off x="380880" y="1600200"/>
              <a:ext cx="3886200" cy="2285280"/>
              <a:chOff x="380880" y="1600200"/>
              <a:chExt cx="3886200" cy="2285280"/>
            </a:xfrm>
          </p:grpSpPr>
          <p:sp>
            <p:nvSpPr>
              <p:cNvPr id="225" name=""/>
              <p:cNvSpPr/>
              <p:nvPr/>
            </p:nvSpPr>
            <p:spPr>
              <a:xfrm>
                <a:off x="380880" y="1602720"/>
                <a:ext cx="1676520" cy="4539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rs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2680" y="1600200"/>
                <a:ext cx="914400" cy="456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ul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057400" y="1600200"/>
                <a:ext cx="1295280" cy="456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oce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380880" y="2057040"/>
                <a:ext cx="3886200" cy="456840"/>
                <a:chOff x="380880" y="2057040"/>
                <a:chExt cx="3886200" cy="4568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057400" y="2057040"/>
                  <a:ext cx="1295280" cy="456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Ross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0880" y="2059560"/>
                  <a:ext cx="1676520" cy="453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asi di dat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52680" y="2057040"/>
                  <a:ext cx="914400" cy="456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S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80880" y="2971440"/>
                <a:ext cx="3886200" cy="456840"/>
                <a:chOff x="380880" y="2971440"/>
                <a:chExt cx="3886200" cy="4568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057400" y="2971440"/>
                  <a:ext cx="1295280" cy="456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run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0880" y="2973960"/>
                  <a:ext cx="1676520" cy="453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Ret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352680" y="2971440"/>
                  <a:ext cx="914400" cy="456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80880" y="2514240"/>
                <a:ext cx="3886200" cy="456840"/>
                <a:chOff x="380880" y="2514240"/>
                <a:chExt cx="3886200" cy="456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2057400" y="2514240"/>
                  <a:ext cx="1295280" cy="456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er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80880" y="2516760"/>
                  <a:ext cx="1676520" cy="453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istem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352680" y="2514240"/>
                  <a:ext cx="914400" cy="456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N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380880" y="3428640"/>
                <a:ext cx="3886200" cy="456840"/>
                <a:chOff x="380880" y="3428640"/>
                <a:chExt cx="3886200" cy="456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057400" y="3428640"/>
                  <a:ext cx="1295280" cy="456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Brun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0880" y="3431160"/>
                  <a:ext cx="1676520" cy="453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ontroll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352680" y="3428640"/>
                  <a:ext cx="914400" cy="4568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304920" y="1146240"/>
              <a:ext cx="1676160" cy="453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Cor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572000" y="1371600"/>
            <a:ext cx="3962520" cy="2286000"/>
            <a:chOff x="4572000" y="1371600"/>
            <a:chExt cx="3962520" cy="2286000"/>
          </a:xfrm>
        </p:grpSpPr>
        <p:sp>
          <p:nvSpPr>
            <p:cNvPr id="246" name=""/>
            <p:cNvSpPr/>
            <p:nvPr/>
          </p:nvSpPr>
          <p:spPr>
            <a:xfrm>
              <a:off x="4648320" y="1828800"/>
              <a:ext cx="121896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20120" y="1828800"/>
              <a:ext cx="91440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a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1828800"/>
              <a:ext cx="175284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dific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67280" y="2286000"/>
              <a:ext cx="17528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M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8320" y="2286000"/>
              <a:ext cx="12189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S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0120" y="228600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r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7280" y="3200400"/>
              <a:ext cx="17528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incher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3200400"/>
              <a:ext cx="12189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0120" y="320040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67280" y="2743200"/>
              <a:ext cx="175284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M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2743200"/>
              <a:ext cx="121896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20120" y="274320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r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0" y="1371600"/>
              <a:ext cx="1219320" cy="457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Au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5800" y="4191120"/>
            <a:ext cx="6858000" cy="1828800"/>
            <a:chOff x="685800" y="4191120"/>
            <a:chExt cx="6858000" cy="1828800"/>
          </a:xfrm>
        </p:grpSpPr>
        <p:sp>
          <p:nvSpPr>
            <p:cNvPr id="260" name=""/>
            <p:cNvSpPr/>
            <p:nvPr/>
          </p:nvSpPr>
          <p:spPr>
            <a:xfrm>
              <a:off x="685800" y="4194360"/>
              <a:ext cx="1676520" cy="4539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cc66"/>
                  </a:solidFill>
                  <a:latin typeface="Arial"/>
                </a:rPr>
                <a:t>CorsiSed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192920"/>
              <a:ext cx="1676520" cy="4539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s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62520" y="4191120"/>
              <a:ext cx="91440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6000" y="5107320"/>
              <a:ext cx="1676520" cy="453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t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62520" y="510552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4650120"/>
              <a:ext cx="167652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stem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62520" y="465012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86000" y="5564520"/>
              <a:ext cx="1676520" cy="453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roll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62520" y="556272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29400" y="4191120"/>
              <a:ext cx="91440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a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76920" y="4191120"/>
              <a:ext cx="1752480" cy="457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dific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76920" y="4650120"/>
              <a:ext cx="17524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M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9400" y="465012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r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76920" y="5562720"/>
              <a:ext cx="17524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incher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29400" y="556272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6920" y="5105520"/>
              <a:ext cx="175248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M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9400" y="5105520"/>
              <a:ext cx="914400" cy="457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r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346480" y="115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200" y="380880"/>
            <a:ext cx="8001000" cy="2057400"/>
            <a:chOff x="457200" y="380880"/>
            <a:chExt cx="8001000" cy="2057400"/>
          </a:xfrm>
        </p:grpSpPr>
        <p:sp>
          <p:nvSpPr>
            <p:cNvPr id="279" name=""/>
            <p:cNvSpPr/>
            <p:nvPr/>
          </p:nvSpPr>
          <p:spPr>
            <a:xfrm>
              <a:off x="2057400" y="380880"/>
              <a:ext cx="990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04760" y="533520"/>
              <a:ext cx="1447920" cy="380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52680" y="533520"/>
              <a:ext cx="1447920" cy="380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00600" y="533520"/>
              <a:ext cx="1447560" cy="380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48160" y="533520"/>
              <a:ext cx="2210040" cy="380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a di nasci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904760" y="914400"/>
              <a:ext cx="6553440" cy="380880"/>
              <a:chOff x="1904760" y="914400"/>
              <a:chExt cx="6553440" cy="380880"/>
            </a:xfrm>
          </p:grpSpPr>
          <p:sp>
            <p:nvSpPr>
              <p:cNvPr id="285" name=""/>
              <p:cNvSpPr/>
              <p:nvPr/>
            </p:nvSpPr>
            <p:spPr>
              <a:xfrm>
                <a:off x="1904760" y="91440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55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52680" y="91440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00600" y="914400"/>
                <a:ext cx="144756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48160" y="914400"/>
                <a:ext cx="221004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5/12/197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904760" y="1295280"/>
              <a:ext cx="6553440" cy="380880"/>
              <a:chOff x="1904760" y="1295280"/>
              <a:chExt cx="6553440" cy="380880"/>
            </a:xfrm>
          </p:grpSpPr>
          <p:sp>
            <p:nvSpPr>
              <p:cNvPr id="290" name=""/>
              <p:cNvSpPr/>
              <p:nvPr/>
            </p:nvSpPr>
            <p:spPr>
              <a:xfrm>
                <a:off x="1904760" y="129528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76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352680" y="129528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00600" y="1295280"/>
                <a:ext cx="144756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aol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48160" y="1295280"/>
                <a:ext cx="221004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3/11/197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4760" y="2057400"/>
              <a:ext cx="6553440" cy="380880"/>
              <a:chOff x="1904760" y="2057400"/>
              <a:chExt cx="6553440" cy="380880"/>
            </a:xfrm>
          </p:grpSpPr>
          <p:sp>
            <p:nvSpPr>
              <p:cNvPr id="295" name=""/>
              <p:cNvSpPr/>
              <p:nvPr/>
            </p:nvSpPr>
            <p:spPr>
              <a:xfrm>
                <a:off x="1904760" y="205740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45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2680" y="205740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800600" y="2057400"/>
                <a:ext cx="144756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48160" y="2057400"/>
                <a:ext cx="221004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1/02/197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904760" y="1676520"/>
              <a:ext cx="6553440" cy="380880"/>
              <a:chOff x="1904760" y="1676520"/>
              <a:chExt cx="6553440" cy="3808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04760" y="167652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28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52680" y="167652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erd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00600" y="1676520"/>
                <a:ext cx="144756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48160" y="1676520"/>
                <a:ext cx="221004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2/11/197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457200" y="533520"/>
              <a:ext cx="1447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tudent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828800" y="4572000"/>
            <a:ext cx="5791320" cy="1676520"/>
            <a:chOff x="1828800" y="4572000"/>
            <a:chExt cx="5791320" cy="1676520"/>
          </a:xfrm>
        </p:grpSpPr>
        <p:sp>
          <p:nvSpPr>
            <p:cNvPr id="306" name=""/>
            <p:cNvSpPr/>
            <p:nvPr/>
          </p:nvSpPr>
          <p:spPr>
            <a:xfrm>
              <a:off x="3429000" y="4572000"/>
              <a:ext cx="990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76720" y="4724280"/>
              <a:ext cx="1447560" cy="381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d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4724280"/>
              <a:ext cx="1447920" cy="381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ol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2200" y="4724280"/>
              <a:ext cx="1447920" cy="381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c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76720" y="5105520"/>
              <a:ext cx="144756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5105520"/>
              <a:ext cx="14479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li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5105520"/>
              <a:ext cx="14479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76720" y="5486400"/>
              <a:ext cx="144756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24280" y="5486400"/>
              <a:ext cx="14479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72200" y="5486400"/>
              <a:ext cx="14479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run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5867280"/>
              <a:ext cx="1447560" cy="38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4280" y="5867280"/>
              <a:ext cx="1447920" cy="38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72200" y="5867280"/>
              <a:ext cx="1447920" cy="38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d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28800" y="4724280"/>
              <a:ext cx="1447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cor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581280" y="24382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590920"/>
            <a:ext cx="144756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2590920"/>
            <a:ext cx="144792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72200" y="2590920"/>
            <a:ext cx="144792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2971800"/>
            <a:ext cx="144756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97180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297180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3352680"/>
            <a:ext cx="1447560" cy="3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3352680"/>
            <a:ext cx="1447920" cy="3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352680"/>
            <a:ext cx="1447920" cy="3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3733920"/>
            <a:ext cx="144756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2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24280" y="373392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373392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2590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s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114800"/>
            <a:ext cx="144756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24280" y="411480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411480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6480" y="115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57200" y="380880"/>
            <a:ext cx="8001000" cy="2057400"/>
            <a:chOff x="457200" y="380880"/>
            <a:chExt cx="8001000" cy="2057400"/>
          </a:xfrm>
        </p:grpSpPr>
        <p:sp>
          <p:nvSpPr>
            <p:cNvPr id="339" name=""/>
            <p:cNvSpPr/>
            <p:nvPr/>
          </p:nvSpPr>
          <p:spPr>
            <a:xfrm>
              <a:off x="2057400" y="380880"/>
              <a:ext cx="990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4760" y="533520"/>
              <a:ext cx="1447920" cy="380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52680" y="533520"/>
              <a:ext cx="1447920" cy="380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00600" y="533520"/>
              <a:ext cx="1447560" cy="380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48160" y="533520"/>
              <a:ext cx="2210040" cy="380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ta di nasci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904760" y="914400"/>
              <a:ext cx="6553440" cy="380880"/>
              <a:chOff x="1904760" y="914400"/>
              <a:chExt cx="6553440" cy="380880"/>
            </a:xfrm>
          </p:grpSpPr>
          <p:sp>
            <p:nvSpPr>
              <p:cNvPr id="345" name=""/>
              <p:cNvSpPr/>
              <p:nvPr/>
            </p:nvSpPr>
            <p:spPr>
              <a:xfrm>
                <a:off x="1904760" y="91440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55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52680" y="91440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00600" y="914400"/>
                <a:ext cx="144756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48160" y="914400"/>
                <a:ext cx="221004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5/12/197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904760" y="1295280"/>
              <a:ext cx="6553440" cy="380880"/>
              <a:chOff x="1904760" y="1295280"/>
              <a:chExt cx="6553440" cy="380880"/>
            </a:xfrm>
          </p:grpSpPr>
          <p:sp>
            <p:nvSpPr>
              <p:cNvPr id="350" name=""/>
              <p:cNvSpPr/>
              <p:nvPr/>
            </p:nvSpPr>
            <p:spPr>
              <a:xfrm>
                <a:off x="1904760" y="129528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76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352680" y="129528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00600" y="1295280"/>
                <a:ext cx="144756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aol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48160" y="1295280"/>
                <a:ext cx="221004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3/11/197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904760" y="2057400"/>
              <a:ext cx="6553440" cy="380880"/>
              <a:chOff x="1904760" y="2057400"/>
              <a:chExt cx="6553440" cy="380880"/>
            </a:xfrm>
          </p:grpSpPr>
          <p:sp>
            <p:nvSpPr>
              <p:cNvPr id="355" name=""/>
              <p:cNvSpPr/>
              <p:nvPr/>
            </p:nvSpPr>
            <p:spPr>
              <a:xfrm>
                <a:off x="1904760" y="205740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45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352680" y="205740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00600" y="2057400"/>
                <a:ext cx="144756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48160" y="2057400"/>
                <a:ext cx="221004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1/02/197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904760" y="1676520"/>
              <a:ext cx="6553440" cy="380880"/>
              <a:chOff x="1904760" y="1676520"/>
              <a:chExt cx="6553440" cy="380880"/>
            </a:xfrm>
          </p:grpSpPr>
          <p:sp>
            <p:nvSpPr>
              <p:cNvPr id="360" name=""/>
              <p:cNvSpPr/>
              <p:nvPr/>
            </p:nvSpPr>
            <p:spPr>
              <a:xfrm>
                <a:off x="1904760" y="167652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28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52680" y="1676520"/>
                <a:ext cx="144792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erd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00600" y="1676520"/>
                <a:ext cx="144756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48160" y="1676520"/>
                <a:ext cx="2210040" cy="38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2/11/197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457200" y="533520"/>
              <a:ext cx="1447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tudent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828800" y="4572000"/>
            <a:ext cx="5791320" cy="1676520"/>
            <a:chOff x="1828800" y="4572000"/>
            <a:chExt cx="5791320" cy="1676520"/>
          </a:xfrm>
        </p:grpSpPr>
        <p:sp>
          <p:nvSpPr>
            <p:cNvPr id="366" name=""/>
            <p:cNvSpPr/>
            <p:nvPr/>
          </p:nvSpPr>
          <p:spPr>
            <a:xfrm>
              <a:off x="3429000" y="4572000"/>
              <a:ext cx="990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76720" y="4724280"/>
              <a:ext cx="1447560" cy="381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d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24280" y="4724280"/>
              <a:ext cx="1447920" cy="381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ol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72200" y="4724280"/>
              <a:ext cx="1447920" cy="381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cen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76720" y="5105520"/>
              <a:ext cx="144756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24280" y="5105520"/>
              <a:ext cx="14479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li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72200" y="5105520"/>
              <a:ext cx="14479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76720" y="5486400"/>
              <a:ext cx="144756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24280" y="5486400"/>
              <a:ext cx="14479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72200" y="5486400"/>
              <a:ext cx="144792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run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76720" y="5867280"/>
              <a:ext cx="1447560" cy="38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24280" y="5867280"/>
              <a:ext cx="1447920" cy="38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im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72200" y="5867280"/>
              <a:ext cx="1447920" cy="38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d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8800" y="4724280"/>
              <a:ext cx="1447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cor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81280" y="24382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6720" y="2590920"/>
            <a:ext cx="144756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24280" y="2590920"/>
            <a:ext cx="144792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72200" y="2590920"/>
            <a:ext cx="1447920" cy="380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2971800"/>
            <a:ext cx="144756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297180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2200" y="297180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76720" y="3352680"/>
            <a:ext cx="1447560" cy="3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24280" y="3352680"/>
            <a:ext cx="1447920" cy="3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72200" y="3352680"/>
            <a:ext cx="1447920" cy="3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3733920"/>
            <a:ext cx="144756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24280" y="373392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72200" y="373392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8800" y="2590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sa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4114800"/>
            <a:ext cx="144756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24280" y="411480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4114800"/>
            <a:ext cx="144792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371600" y="3124080"/>
            <a:ext cx="274320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276720" y="3124080"/>
            <a:ext cx="83808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371600" y="2362320"/>
            <a:ext cx="0" cy="76176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2362320"/>
            <a:ext cx="533520" cy="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066320" y="3581280"/>
            <a:ext cx="304812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066680" y="2209680"/>
            <a:ext cx="0" cy="137160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2209680"/>
            <a:ext cx="838440" cy="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838080" y="3962520"/>
            <a:ext cx="327672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838080" y="1828440"/>
            <a:ext cx="0" cy="213372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8080" y="1828800"/>
            <a:ext cx="1067040" cy="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520" y="4267080"/>
            <a:ext cx="358128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33520" y="1066680"/>
            <a:ext cx="0" cy="320040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1066680"/>
            <a:ext cx="1371600" cy="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857640" y="3200400"/>
            <a:ext cx="167652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534520" y="3200040"/>
            <a:ext cx="0" cy="289548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695720" y="6095880"/>
            <a:ext cx="838440" cy="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858000" y="3581280"/>
            <a:ext cx="144792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8305920" y="3580920"/>
            <a:ext cx="0" cy="213372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619760" y="5715000"/>
            <a:ext cx="685800" cy="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620120" y="5410080"/>
            <a:ext cx="457200" cy="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7620120" y="5181480"/>
            <a:ext cx="304560" cy="0"/>
          </a:xfrm>
          <a:prstGeom prst="line">
            <a:avLst/>
          </a:prstGeom>
          <a:ln w="507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077320" y="3885840"/>
            <a:ext cx="0" cy="152388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6857640" y="3886200"/>
            <a:ext cx="121932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857640" y="4267080"/>
            <a:ext cx="1066680" cy="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924680" y="4267080"/>
            <a:ext cx="0" cy="91440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Vincoli di integrità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sistono istanze di basi di dati che, pur sintatticamente corrette, non rappresentano informazioni possibili per l’applicazione di interes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Una base di dati "scorretta"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371600" y="1523880"/>
            <a:ext cx="5562720" cy="1981440"/>
            <a:chOff x="1371600" y="1523880"/>
            <a:chExt cx="5562720" cy="1981440"/>
          </a:xfrm>
        </p:grpSpPr>
        <p:grpSp>
          <p:nvGrpSpPr>
            <p:cNvPr id="426" name=""/>
            <p:cNvGrpSpPr/>
            <p:nvPr/>
          </p:nvGrpSpPr>
          <p:grpSpPr>
            <a:xfrm>
              <a:off x="2438280" y="1523880"/>
              <a:ext cx="4496040" cy="1981440"/>
              <a:chOff x="2438280" y="1523880"/>
              <a:chExt cx="4496040" cy="1981440"/>
            </a:xfrm>
          </p:grpSpPr>
          <p:sp>
            <p:nvSpPr>
              <p:cNvPr id="427" name=""/>
              <p:cNvSpPr/>
              <p:nvPr/>
            </p:nvSpPr>
            <p:spPr>
              <a:xfrm>
                <a:off x="2438280" y="1523880"/>
                <a:ext cx="1522440" cy="39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tuden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60720" y="1523880"/>
                <a:ext cx="898560" cy="39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ot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59280" y="1523880"/>
                <a:ext cx="1036800" cy="39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od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96080" y="1523880"/>
                <a:ext cx="1038240" cy="3970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rs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60720" y="1920960"/>
                <a:ext cx="898560" cy="3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59280" y="1920960"/>
                <a:ext cx="1036800" cy="3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96080" y="1920960"/>
                <a:ext cx="1038240" cy="3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2438280" y="1920960"/>
                <a:ext cx="1522440" cy="791640"/>
                <a:chOff x="2438280" y="1920960"/>
                <a:chExt cx="1522440" cy="7916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438280" y="1920960"/>
                  <a:ext cx="1522440" cy="394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7654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438280" y="2315880"/>
                  <a:ext cx="1522440" cy="396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7654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3960720" y="2316240"/>
                <a:ext cx="898560" cy="396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59280" y="2316240"/>
                <a:ext cx="1036800" cy="396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 lod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96080" y="2316240"/>
                <a:ext cx="1038240" cy="396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38280" y="2712960"/>
                <a:ext cx="1522440" cy="3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8764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3960720" y="2712960"/>
                <a:ext cx="1935000" cy="395280"/>
                <a:chOff x="3960720" y="2712960"/>
                <a:chExt cx="1935000" cy="3952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960720" y="2712960"/>
                  <a:ext cx="898200" cy="395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858920" y="2712960"/>
                  <a:ext cx="1036800" cy="395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 lod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5896080" y="2712960"/>
                <a:ext cx="1038240" cy="3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38280" y="3108240"/>
                <a:ext cx="1522440" cy="39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3943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960720" y="3108240"/>
                <a:ext cx="898560" cy="39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59280" y="3108240"/>
                <a:ext cx="1036800" cy="39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96080" y="3108240"/>
                <a:ext cx="1038240" cy="39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1371600" y="1523880"/>
              <a:ext cx="1066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sam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085760" y="3867120"/>
            <a:ext cx="5913360" cy="1584360"/>
            <a:chOff x="1085760" y="3867120"/>
            <a:chExt cx="5913360" cy="1584360"/>
          </a:xfrm>
        </p:grpSpPr>
        <p:grpSp>
          <p:nvGrpSpPr>
            <p:cNvPr id="451" name=""/>
            <p:cNvGrpSpPr/>
            <p:nvPr/>
          </p:nvGrpSpPr>
          <p:grpSpPr>
            <a:xfrm>
              <a:off x="2685960" y="3867120"/>
              <a:ext cx="4313160" cy="1584360"/>
              <a:chOff x="2685960" y="3867120"/>
              <a:chExt cx="4313160" cy="1584360"/>
            </a:xfrm>
          </p:grpSpPr>
          <p:sp>
            <p:nvSpPr>
              <p:cNvPr id="452" name=""/>
              <p:cNvSpPr/>
              <p:nvPr/>
            </p:nvSpPr>
            <p:spPr>
              <a:xfrm>
                <a:off x="2685960" y="3867120"/>
                <a:ext cx="1522440" cy="396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tricol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85960" y="4263840"/>
                <a:ext cx="1522440" cy="3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7654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2685960" y="4659120"/>
                <a:ext cx="1522440" cy="792000"/>
                <a:chOff x="2685960" y="4659120"/>
                <a:chExt cx="1522440" cy="7920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2685960" y="4659120"/>
                  <a:ext cx="1522440" cy="396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78764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685960" y="5055840"/>
                  <a:ext cx="1522440" cy="395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78764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4208400" y="3867120"/>
                <a:ext cx="1525320" cy="396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g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208400" y="4263840"/>
                <a:ext cx="1525320" cy="3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08400" y="4659120"/>
                <a:ext cx="1525320" cy="39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08400" y="5056200"/>
                <a:ext cx="1525320" cy="3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ianch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733720" y="3867120"/>
                <a:ext cx="1265400" cy="39672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33720" y="4263840"/>
                <a:ext cx="1265400" cy="3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33720" y="4659120"/>
                <a:ext cx="1265400" cy="39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ier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33720" y="5056200"/>
                <a:ext cx="1265400" cy="395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uc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085760" y="3867120"/>
              <a:ext cx="1600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udent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685960" y="4667400"/>
            <a:ext cx="1522440" cy="772920"/>
            <a:chOff x="2685960" y="4667400"/>
            <a:chExt cx="1522440" cy="772920"/>
          </a:xfrm>
        </p:grpSpPr>
        <p:sp>
          <p:nvSpPr>
            <p:cNvPr id="467" name=""/>
            <p:cNvSpPr/>
            <p:nvPr/>
          </p:nvSpPr>
          <p:spPr>
            <a:xfrm>
              <a:off x="2685960" y="4667400"/>
              <a:ext cx="1522440" cy="38700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8764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85960" y="5054400"/>
              <a:ext cx="1522440" cy="38592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8764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962520" y="1924200"/>
            <a:ext cx="898560" cy="395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960720" y="2712960"/>
            <a:ext cx="1935000" cy="395280"/>
            <a:chOff x="3960720" y="2712960"/>
            <a:chExt cx="1935000" cy="395280"/>
          </a:xfrm>
        </p:grpSpPr>
        <p:sp>
          <p:nvSpPr>
            <p:cNvPr id="471" name=""/>
            <p:cNvSpPr/>
            <p:nvPr/>
          </p:nvSpPr>
          <p:spPr>
            <a:xfrm>
              <a:off x="3960720" y="2712960"/>
              <a:ext cx="898200" cy="39528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58920" y="2712960"/>
              <a:ext cx="1036800" cy="39528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 l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438280" y="3105000"/>
            <a:ext cx="1522440" cy="3970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94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Vincolo di integrità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Proprietà che deve essere soddisfatta dalle istanze che rappresentano informazioni corrette per l’applicazi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Un vincolo è una funzione booleana (un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predicato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):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ssocia ad ogni istanza il valore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vero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fal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escrizione più accurata della realtà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ntributo alla “qualità dei dati”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utili nella progettazione (vedremo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usati dai DBMS nella esecuzione delle interrogazio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Vincoli di integrità, perché?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Chiave 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nsieme di attributi che identificano le ennuple di una relazi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Formalment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un insieme  K  di attributi è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superchiave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per r  se  r  non contiene due ennuple distinte  t</a:t>
            </a:r>
            <a:r>
              <a:rPr b="1" lang="de-DE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 e  t</a:t>
            </a:r>
            <a:r>
              <a:rPr b="1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 con  t</a:t>
            </a:r>
            <a:r>
              <a:rPr b="1" lang="de-DE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[K] = t</a:t>
            </a:r>
            <a:r>
              <a:rPr b="1" lang="de-DE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[K]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K  è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chiave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per r  se è una superchiave minimale per  r 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(cioè non contiene un’altra superchiave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Una chiave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39625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atricola è una chiav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è superchi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ntiene un solo attributo e quindi è minim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838080" y="1536840"/>
            <a:ext cx="7385040" cy="2425680"/>
            <a:chOff x="838080" y="1536840"/>
            <a:chExt cx="7385040" cy="242568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1536840"/>
              <a:ext cx="7264440" cy="2425680"/>
              <a:chOff x="914400" y="1536840"/>
              <a:chExt cx="7264440" cy="242568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1536840"/>
                <a:ext cx="7264440" cy="432000"/>
              </a:xfrm>
              <a:prstGeom prst="rect">
                <a:avLst/>
              </a:prstGeom>
              <a:solidFill>
                <a:srgbClr val="e4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1956240"/>
                <a:ext cx="7264440" cy="2006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838080" y="1536840"/>
              <a:ext cx="7385040" cy="2367000"/>
              <a:chOff x="838080" y="1536840"/>
              <a:chExt cx="7385040" cy="2367000"/>
            </a:xfrm>
          </p:grpSpPr>
          <p:sp>
            <p:nvSpPr>
              <p:cNvPr id="487" name=""/>
              <p:cNvSpPr/>
              <p:nvPr/>
            </p:nvSpPr>
            <p:spPr>
              <a:xfrm>
                <a:off x="838080" y="1542960"/>
                <a:ext cx="152244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tricol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38080" y="1940040"/>
                <a:ext cx="1522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765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38080" y="2324160"/>
                <a:ext cx="15224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876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38080" y="2724120"/>
                <a:ext cx="1522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543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85840" y="1542960"/>
                <a:ext cx="12654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85840" y="1940040"/>
                <a:ext cx="1265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887640" y="2722680"/>
                <a:ext cx="12650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ier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87640" y="3113280"/>
                <a:ext cx="1265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38080" y="3113280"/>
                <a:ext cx="1522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765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38080" y="3508560"/>
                <a:ext cx="1522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765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87640" y="2324160"/>
                <a:ext cx="1265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60520" y="1542960"/>
                <a:ext cx="1525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gno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360520" y="1940040"/>
                <a:ext cx="15253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1960" y="2722680"/>
                <a:ext cx="15256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361960" y="3113280"/>
                <a:ext cx="1525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e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361960" y="2324160"/>
                <a:ext cx="1525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361960" y="3508560"/>
                <a:ext cx="1525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887640" y="3508560"/>
                <a:ext cx="1265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ier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162400" y="1536840"/>
                <a:ext cx="1525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ors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162400" y="1933560"/>
                <a:ext cx="15253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Ing In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163840" y="2722680"/>
                <a:ext cx="15256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Ing Mec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162400" y="3113280"/>
                <a:ext cx="1544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Ing In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63840" y="2324160"/>
                <a:ext cx="1525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Ing In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63840" y="3502080"/>
                <a:ext cx="1525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Arial"/>
                  </a:rPr>
                  <a:t>Ing Mec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7200" y="1540080"/>
                <a:ext cx="15256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asci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79800" y="1962360"/>
                <a:ext cx="1525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/12/7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97440" y="2722680"/>
                <a:ext cx="15256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0/7/7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97440" y="3111480"/>
                <a:ext cx="1525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/11/7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697440" y="2324160"/>
                <a:ext cx="1525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/11/7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97440" y="3492720"/>
                <a:ext cx="1525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/12/7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914400" y="838080"/>
            <a:ext cx="0" cy="243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0880" y="40381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gnome, Nome, Nascita è un’altra chiav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è  superchi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minim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38080" y="1536840"/>
            <a:ext cx="7385040" cy="2425680"/>
            <a:chOff x="838080" y="1536840"/>
            <a:chExt cx="7385040" cy="2425680"/>
          </a:xfrm>
        </p:grpSpPr>
        <p:grpSp>
          <p:nvGrpSpPr>
            <p:cNvPr id="520" name=""/>
            <p:cNvGrpSpPr/>
            <p:nvPr/>
          </p:nvGrpSpPr>
          <p:grpSpPr>
            <a:xfrm>
              <a:off x="914400" y="1536840"/>
              <a:ext cx="7264440" cy="2425680"/>
              <a:chOff x="914400" y="1536840"/>
              <a:chExt cx="7264440" cy="2425680"/>
            </a:xfrm>
          </p:grpSpPr>
          <p:sp>
            <p:nvSpPr>
              <p:cNvPr id="521" name=""/>
              <p:cNvSpPr/>
              <p:nvPr/>
            </p:nvSpPr>
            <p:spPr>
              <a:xfrm>
                <a:off x="914400" y="1536840"/>
                <a:ext cx="7264440" cy="432000"/>
              </a:xfrm>
              <a:prstGeom prst="rect">
                <a:avLst/>
              </a:prstGeom>
              <a:solidFill>
                <a:srgbClr val="e4bf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14400" y="1956240"/>
                <a:ext cx="7264440" cy="2006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838080" y="1543320"/>
              <a:ext cx="1522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rico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940040"/>
              <a:ext cx="1522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765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8080" y="2324520"/>
              <a:ext cx="1522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876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080" y="2724480"/>
              <a:ext cx="1522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543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86200" y="1543320"/>
              <a:ext cx="12654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87640" y="2722680"/>
              <a:ext cx="126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e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87640" y="3113280"/>
              <a:ext cx="1265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8080" y="3113280"/>
              <a:ext cx="1522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765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38080" y="3508560"/>
              <a:ext cx="1522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765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60520" y="1543320"/>
              <a:ext cx="1525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gno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2320" y="2722680"/>
              <a:ext cx="1525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r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62320" y="3113280"/>
              <a:ext cx="1525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r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360520" y="1940040"/>
              <a:ext cx="2792520" cy="779760"/>
              <a:chOff x="2360520" y="1940040"/>
              <a:chExt cx="2792520" cy="779760"/>
            </a:xfrm>
          </p:grpSpPr>
          <p:sp>
            <p:nvSpPr>
              <p:cNvPr id="536" name=""/>
              <p:cNvSpPr/>
              <p:nvPr/>
            </p:nvSpPr>
            <p:spPr>
              <a:xfrm>
                <a:off x="3886200" y="1940040"/>
                <a:ext cx="1265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887640" y="2324520"/>
                <a:ext cx="1265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i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360520" y="1940040"/>
                <a:ext cx="1525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62320" y="2324520"/>
                <a:ext cx="15253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oss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2362320" y="3508560"/>
              <a:ext cx="1525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s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87640" y="3508560"/>
              <a:ext cx="12654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ier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62400" y="1536840"/>
              <a:ext cx="152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s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62400" y="1933920"/>
              <a:ext cx="1525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g In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64200" y="2722680"/>
              <a:ext cx="152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g Me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62400" y="3113280"/>
              <a:ext cx="1544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g In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64200" y="2324520"/>
              <a:ext cx="1525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g In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64200" y="3502440"/>
              <a:ext cx="1525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g Me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67560" y="1540080"/>
              <a:ext cx="152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sci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80160" y="1962360"/>
              <a:ext cx="1525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/12/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97800" y="2722680"/>
              <a:ext cx="1525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/7/7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97800" y="3111840"/>
              <a:ext cx="1525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/11/7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97800" y="2324520"/>
              <a:ext cx="1525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/11/7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97800" y="3492720"/>
              <a:ext cx="1525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/12/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298600" y="1943280"/>
            <a:ext cx="2792520" cy="779040"/>
            <a:chOff x="2298600" y="1943280"/>
            <a:chExt cx="2792520" cy="779040"/>
          </a:xfrm>
        </p:grpSpPr>
        <p:sp>
          <p:nvSpPr>
            <p:cNvPr id="555" name=""/>
            <p:cNvSpPr/>
            <p:nvPr/>
          </p:nvSpPr>
          <p:spPr>
            <a:xfrm>
              <a:off x="3824280" y="1943280"/>
              <a:ext cx="1265400" cy="3949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25720" y="2327400"/>
              <a:ext cx="1265400" cy="3949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98600" y="1943280"/>
              <a:ext cx="1525680" cy="3949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s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00400" y="2327400"/>
              <a:ext cx="1525320" cy="3949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s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298600" y="1981080"/>
            <a:ext cx="5875560" cy="1979640"/>
            <a:chOff x="2298600" y="1981080"/>
            <a:chExt cx="5875560" cy="1979640"/>
          </a:xfrm>
        </p:grpSpPr>
        <p:sp>
          <p:nvSpPr>
            <p:cNvPr id="560" name=""/>
            <p:cNvSpPr/>
            <p:nvPr/>
          </p:nvSpPr>
          <p:spPr>
            <a:xfrm>
              <a:off x="2313000" y="3565440"/>
              <a:ext cx="1525680" cy="3952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s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47040" y="1981080"/>
              <a:ext cx="1525320" cy="3952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/12/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48480" y="3549600"/>
              <a:ext cx="1525680" cy="3952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/12/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98600" y="1996920"/>
              <a:ext cx="1525680" cy="3952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ss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822840" y="2324160"/>
            <a:ext cx="4347720" cy="1198440"/>
            <a:chOff x="3822840" y="2324160"/>
            <a:chExt cx="4347720" cy="1198440"/>
          </a:xfrm>
        </p:grpSpPr>
        <p:sp>
          <p:nvSpPr>
            <p:cNvPr id="565" name=""/>
            <p:cNvSpPr/>
            <p:nvPr/>
          </p:nvSpPr>
          <p:spPr>
            <a:xfrm>
              <a:off x="3835440" y="3127320"/>
              <a:ext cx="1264680" cy="3952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45240" y="3111480"/>
              <a:ext cx="1525320" cy="3952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/11/7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45240" y="2324160"/>
              <a:ext cx="1525320" cy="3952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/11/7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22840" y="2324160"/>
              <a:ext cx="1265040" cy="3952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Un'altra chiave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5" dur="1" fill="hold"/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Gestione delle informazioni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elle attività standardizzate dei sistemi informativi complessi, sono state introdotte col tempo forme di organizzazione e codifica delle informazio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Ad esempio, nei servizi anagrafici si è iniziato con registrazioni discorsive e po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nome e cogn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stremi anagrafici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codice fisc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Vincoli, schemi e istanze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i vincoli corrispondono a proprietà del mondo reale modellato dalla base di da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interessano a livello di schema (con riferimento cioè a tutte le istanz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ad uno schema associamo un insieme di vincoli e consideriamo </a:t>
            </a: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corrette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(valide, ammissibili) le istanze che soddisfano tutti i vincol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un'istanza può soddisfare altri vincoli (“per caso”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nformazioni in relazioni diverse sono correlate attraverso valor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n particolare, valori delle chiavi (primari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le correlazioni debbono essere "coerenti"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Integrità referenziale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Istruzione SELECT (versione base)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SELECT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ListaAttribu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FROM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ListaTabel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[ </a:t>
            </a: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WHERE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Condizione ]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"target list"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lausola </a:t>
            </a: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FROM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lausola </a:t>
            </a: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WHERE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5105520" y="228600"/>
            <a:ext cx="3504960" cy="990720"/>
            <a:chOff x="5105520" y="228600"/>
            <a:chExt cx="3504960" cy="990720"/>
          </a:xfrm>
        </p:grpSpPr>
        <p:sp>
          <p:nvSpPr>
            <p:cNvPr id="577" name=""/>
            <p:cNvSpPr/>
            <p:nvPr/>
          </p:nvSpPr>
          <p:spPr>
            <a:xfrm>
              <a:off x="5105520" y="76212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77120" y="762120"/>
              <a:ext cx="6858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t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228600"/>
              <a:ext cx="1371600" cy="457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Arial"/>
                </a:rPr>
                <a:t>Perso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62920" y="762120"/>
              <a:ext cx="144756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ddi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105520" y="1219320"/>
            <a:ext cx="3504960" cy="4572000"/>
            <a:chOff x="5105520" y="1219320"/>
            <a:chExt cx="3504960" cy="4572000"/>
          </a:xfrm>
        </p:grpSpPr>
        <p:sp>
          <p:nvSpPr>
            <p:cNvPr id="582" name=""/>
            <p:cNvSpPr/>
            <p:nvPr/>
          </p:nvSpPr>
          <p:spPr>
            <a:xfrm>
              <a:off x="5105520" y="12193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re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77120" y="12193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5520" y="21337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77120" y="21337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05520" y="25909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n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77120" y="25909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05520" y="30481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lipp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77120" y="30481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05520" y="35053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g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77120" y="35053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05520" y="39625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ran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477120" y="39625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05520" y="44197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lg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77120" y="44197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05520" y="48769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rg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77120" y="48769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05520" y="53341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s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77120" y="53341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05520" y="16765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l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77120" y="16765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62920" y="12193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62920" y="21337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62920" y="25909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30481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62920" y="35053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62920" y="39625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44197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162920" y="48769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62920" y="53341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62920" y="16765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28600" y="380880"/>
            <a:ext cx="4572000" cy="457200"/>
            <a:chOff x="228600" y="380880"/>
            <a:chExt cx="4572000" cy="457200"/>
          </a:xfrm>
        </p:grpSpPr>
        <p:sp>
          <p:nvSpPr>
            <p:cNvPr id="613" name=""/>
            <p:cNvSpPr/>
            <p:nvPr/>
          </p:nvSpPr>
          <p:spPr>
            <a:xfrm>
              <a:off x="2057400" y="38088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d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" y="380880"/>
              <a:ext cx="1828800" cy="38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Arial"/>
                </a:rPr>
                <a:t>Maternit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29000" y="38088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gl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057400" y="838080"/>
            <a:ext cx="2743200" cy="2743200"/>
            <a:chOff x="2057400" y="838080"/>
            <a:chExt cx="2743200" cy="2743200"/>
          </a:xfrm>
        </p:grpSpPr>
        <p:sp>
          <p:nvSpPr>
            <p:cNvPr id="617" name=""/>
            <p:cNvSpPr/>
            <p:nvPr/>
          </p:nvSpPr>
          <p:spPr>
            <a:xfrm>
              <a:off x="2057400" y="838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s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57400" y="17524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n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57400" y="22096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n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057400" y="26668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57400" y="3124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57400" y="12952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s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29000" y="838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29000" y="17524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lg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29000" y="22096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lipp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429000" y="26668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re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29000" y="3124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l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29000" y="12952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g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28600" y="3809880"/>
            <a:ext cx="4572000" cy="457200"/>
            <a:chOff x="228600" y="3809880"/>
            <a:chExt cx="4572000" cy="457200"/>
          </a:xfrm>
        </p:grpSpPr>
        <p:sp>
          <p:nvSpPr>
            <p:cNvPr id="630" name=""/>
            <p:cNvSpPr/>
            <p:nvPr/>
          </p:nvSpPr>
          <p:spPr>
            <a:xfrm>
              <a:off x="2057400" y="380988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ad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8600" y="3809880"/>
              <a:ext cx="1828800" cy="38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Arial"/>
                </a:rPr>
                <a:t>Paternit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29000" y="380988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gl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057400" y="4267080"/>
            <a:ext cx="2743200" cy="2286000"/>
            <a:chOff x="2057400" y="4267080"/>
            <a:chExt cx="2743200" cy="2286000"/>
          </a:xfrm>
        </p:grpSpPr>
        <p:sp>
          <p:nvSpPr>
            <p:cNvPr id="634" name=""/>
            <p:cNvSpPr/>
            <p:nvPr/>
          </p:nvSpPr>
          <p:spPr>
            <a:xfrm>
              <a:off x="2057400" y="47242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g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57400" y="51814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g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57400" y="56386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ran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57400" y="60958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ran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57400" y="4267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rg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29000" y="47242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lg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29000" y="51814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lipp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29000" y="56386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re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29000" y="60958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l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29000" y="4267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ran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Selezione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62120" y="1603440"/>
            <a:ext cx="77724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Nome e reddito delle persone con meno di trenta anni</a:t>
            </a:r>
            <a:r>
              <a:rPr b="1" lang="de-DE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select nome, redd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from pers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where eta &lt; 3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2514600" y="228600"/>
            <a:ext cx="3504960" cy="990720"/>
            <a:chOff x="2514600" y="228600"/>
            <a:chExt cx="3504960" cy="990720"/>
          </a:xfrm>
        </p:grpSpPr>
        <p:sp>
          <p:nvSpPr>
            <p:cNvPr id="647" name=""/>
            <p:cNvSpPr/>
            <p:nvPr/>
          </p:nvSpPr>
          <p:spPr>
            <a:xfrm>
              <a:off x="2514600" y="76212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86200" y="762120"/>
              <a:ext cx="6858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t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14600" y="228600"/>
              <a:ext cx="1371600" cy="457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Arial"/>
                </a:rPr>
                <a:t>Perso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72000" y="762120"/>
              <a:ext cx="144756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ddi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514600" y="1219320"/>
            <a:ext cx="3505320" cy="4572000"/>
            <a:chOff x="2514600" y="1219320"/>
            <a:chExt cx="3505320" cy="4572000"/>
          </a:xfrm>
        </p:grpSpPr>
        <p:grpSp>
          <p:nvGrpSpPr>
            <p:cNvPr id="652" name=""/>
            <p:cNvGrpSpPr/>
            <p:nvPr/>
          </p:nvGrpSpPr>
          <p:grpSpPr>
            <a:xfrm>
              <a:off x="2514600" y="1219320"/>
              <a:ext cx="3505320" cy="457200"/>
              <a:chOff x="2514600" y="1219320"/>
              <a:chExt cx="350532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2514600" y="1219320"/>
                <a:ext cx="13716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ndre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6200" y="1219320"/>
                <a:ext cx="6858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572000" y="1219320"/>
                <a:ext cx="144792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2514600" y="2133720"/>
              <a:ext cx="3505320" cy="457200"/>
              <a:chOff x="2514600" y="2133720"/>
              <a:chExt cx="3505320" cy="457200"/>
            </a:xfrm>
          </p:grpSpPr>
          <p:sp>
            <p:nvSpPr>
              <p:cNvPr id="657" name=""/>
              <p:cNvSpPr/>
              <p:nvPr/>
            </p:nvSpPr>
            <p:spPr>
              <a:xfrm>
                <a:off x="2514600" y="2133720"/>
                <a:ext cx="13716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i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86200" y="2133720"/>
                <a:ext cx="6858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572000" y="2133720"/>
                <a:ext cx="144792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2514600" y="2590920"/>
              <a:ext cx="3505320" cy="457200"/>
              <a:chOff x="2514600" y="2590920"/>
              <a:chExt cx="3505320" cy="457200"/>
            </a:xfrm>
          </p:grpSpPr>
          <p:sp>
            <p:nvSpPr>
              <p:cNvPr id="661" name=""/>
              <p:cNvSpPr/>
              <p:nvPr/>
            </p:nvSpPr>
            <p:spPr>
              <a:xfrm>
                <a:off x="2514600" y="2590920"/>
                <a:ext cx="13716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nn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86200" y="2590920"/>
                <a:ext cx="6858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72000" y="2590920"/>
                <a:ext cx="144792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514600" y="3048120"/>
              <a:ext cx="3505320" cy="457200"/>
              <a:chOff x="2514600" y="3048120"/>
              <a:chExt cx="3505320" cy="457200"/>
            </a:xfrm>
          </p:grpSpPr>
          <p:sp>
            <p:nvSpPr>
              <p:cNvPr id="665" name=""/>
              <p:cNvSpPr/>
              <p:nvPr/>
            </p:nvSpPr>
            <p:spPr>
              <a:xfrm>
                <a:off x="2514600" y="3048120"/>
                <a:ext cx="13716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ilipp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86200" y="3048120"/>
                <a:ext cx="6858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72000" y="3048120"/>
                <a:ext cx="144792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2514600" y="3505320"/>
              <a:ext cx="3505320" cy="457200"/>
              <a:chOff x="2514600" y="3505320"/>
              <a:chExt cx="3505320" cy="457200"/>
            </a:xfrm>
          </p:grpSpPr>
          <p:sp>
            <p:nvSpPr>
              <p:cNvPr id="669" name=""/>
              <p:cNvSpPr/>
              <p:nvPr/>
            </p:nvSpPr>
            <p:spPr>
              <a:xfrm>
                <a:off x="2514600" y="3505320"/>
                <a:ext cx="13716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Luigi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86200" y="3505320"/>
                <a:ext cx="6858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572000" y="3505320"/>
                <a:ext cx="144792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2514600" y="3962520"/>
              <a:ext cx="3505320" cy="457200"/>
              <a:chOff x="2514600" y="3962520"/>
              <a:chExt cx="3505320" cy="457200"/>
            </a:xfrm>
          </p:grpSpPr>
          <p:sp>
            <p:nvSpPr>
              <p:cNvPr id="673" name=""/>
              <p:cNvSpPr/>
              <p:nvPr/>
            </p:nvSpPr>
            <p:spPr>
              <a:xfrm>
                <a:off x="2514600" y="3962520"/>
                <a:ext cx="13716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ranc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886200" y="3962520"/>
                <a:ext cx="6858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2000" y="3962520"/>
                <a:ext cx="144792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2514600" y="4419720"/>
              <a:ext cx="3505320" cy="457200"/>
              <a:chOff x="2514600" y="4419720"/>
              <a:chExt cx="3505320" cy="457200"/>
            </a:xfrm>
          </p:grpSpPr>
          <p:sp>
            <p:nvSpPr>
              <p:cNvPr id="677" name=""/>
              <p:cNvSpPr/>
              <p:nvPr/>
            </p:nvSpPr>
            <p:spPr>
              <a:xfrm>
                <a:off x="2514600" y="4419720"/>
                <a:ext cx="13716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lg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886200" y="4419720"/>
                <a:ext cx="6858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2000" y="4419720"/>
                <a:ext cx="144792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514600" y="4876920"/>
              <a:ext cx="3505320" cy="457200"/>
              <a:chOff x="2514600" y="4876920"/>
              <a:chExt cx="3505320" cy="457200"/>
            </a:xfrm>
          </p:grpSpPr>
          <p:sp>
            <p:nvSpPr>
              <p:cNvPr id="681" name=""/>
              <p:cNvSpPr/>
              <p:nvPr/>
            </p:nvSpPr>
            <p:spPr>
              <a:xfrm>
                <a:off x="2514600" y="4876920"/>
                <a:ext cx="13716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rgi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886200" y="4876920"/>
                <a:ext cx="6858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72000" y="4876920"/>
                <a:ext cx="144792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514600" y="5334120"/>
              <a:ext cx="3505320" cy="457200"/>
              <a:chOff x="2514600" y="5334120"/>
              <a:chExt cx="3505320" cy="457200"/>
            </a:xfrm>
          </p:grpSpPr>
          <p:sp>
            <p:nvSpPr>
              <p:cNvPr id="685" name=""/>
              <p:cNvSpPr/>
              <p:nvPr/>
            </p:nvSpPr>
            <p:spPr>
              <a:xfrm>
                <a:off x="2514600" y="5334120"/>
                <a:ext cx="13716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Luis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86200" y="5334120"/>
                <a:ext cx="6858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572000" y="5334120"/>
                <a:ext cx="144792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7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2514600" y="1676520"/>
              <a:ext cx="3505320" cy="457200"/>
              <a:chOff x="2514600" y="1676520"/>
              <a:chExt cx="3505320" cy="457200"/>
            </a:xfrm>
          </p:grpSpPr>
          <p:sp>
            <p:nvSpPr>
              <p:cNvPr id="689" name=""/>
              <p:cNvSpPr/>
              <p:nvPr/>
            </p:nvSpPr>
            <p:spPr>
              <a:xfrm>
                <a:off x="2514600" y="1676520"/>
                <a:ext cx="13716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ld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886200" y="1676520"/>
                <a:ext cx="68580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72000" y="1676520"/>
                <a:ext cx="1447920" cy="45720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" name=""/>
          <p:cNvGrpSpPr/>
          <p:nvPr/>
        </p:nvGrpSpPr>
        <p:grpSpPr>
          <a:xfrm>
            <a:off x="2514600" y="1219320"/>
            <a:ext cx="3505320" cy="2286000"/>
            <a:chOff x="2514600" y="1219320"/>
            <a:chExt cx="3505320" cy="2286000"/>
          </a:xfrm>
        </p:grpSpPr>
        <p:grpSp>
          <p:nvGrpSpPr>
            <p:cNvPr id="693" name=""/>
            <p:cNvGrpSpPr/>
            <p:nvPr/>
          </p:nvGrpSpPr>
          <p:grpSpPr>
            <a:xfrm>
              <a:off x="2514600" y="1219320"/>
              <a:ext cx="3505320" cy="457200"/>
              <a:chOff x="2514600" y="1219320"/>
              <a:chExt cx="3505320" cy="457200"/>
            </a:xfrm>
          </p:grpSpPr>
          <p:sp>
            <p:nvSpPr>
              <p:cNvPr id="694" name=""/>
              <p:cNvSpPr/>
              <p:nvPr/>
            </p:nvSpPr>
            <p:spPr>
              <a:xfrm>
                <a:off x="2514600" y="1219320"/>
                <a:ext cx="137160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ndre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886200" y="1219320"/>
                <a:ext cx="68580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572000" y="1219320"/>
                <a:ext cx="144792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2514600" y="1676520"/>
              <a:ext cx="3505320" cy="457200"/>
              <a:chOff x="2514600" y="1676520"/>
              <a:chExt cx="3505320" cy="457200"/>
            </a:xfrm>
          </p:grpSpPr>
          <p:sp>
            <p:nvSpPr>
              <p:cNvPr id="698" name=""/>
              <p:cNvSpPr/>
              <p:nvPr/>
            </p:nvSpPr>
            <p:spPr>
              <a:xfrm>
                <a:off x="2514600" y="1676520"/>
                <a:ext cx="137160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ld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86200" y="1676520"/>
                <a:ext cx="68580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72000" y="1676520"/>
                <a:ext cx="144792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2514600" y="3048120"/>
              <a:ext cx="3505320" cy="457200"/>
              <a:chOff x="2514600" y="3048120"/>
              <a:chExt cx="3505320" cy="457200"/>
            </a:xfrm>
          </p:grpSpPr>
          <p:sp>
            <p:nvSpPr>
              <p:cNvPr id="702" name=""/>
              <p:cNvSpPr/>
              <p:nvPr/>
            </p:nvSpPr>
            <p:spPr>
              <a:xfrm>
                <a:off x="2514600" y="3048120"/>
                <a:ext cx="137160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ilipp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886200" y="3048120"/>
                <a:ext cx="68580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572000" y="3048120"/>
                <a:ext cx="144792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2133720" y="1219320"/>
            <a:ext cx="4267080" cy="4647960"/>
            <a:chOff x="2133720" y="1219320"/>
            <a:chExt cx="4267080" cy="4647960"/>
          </a:xfrm>
        </p:grpSpPr>
        <p:grpSp>
          <p:nvGrpSpPr>
            <p:cNvPr id="706" name=""/>
            <p:cNvGrpSpPr/>
            <p:nvPr/>
          </p:nvGrpSpPr>
          <p:grpSpPr>
            <a:xfrm>
              <a:off x="2514600" y="1219320"/>
              <a:ext cx="3505320" cy="1371600"/>
              <a:chOff x="2514600" y="1219320"/>
              <a:chExt cx="3505320" cy="1371600"/>
            </a:xfrm>
          </p:grpSpPr>
          <p:grpSp>
            <p:nvGrpSpPr>
              <p:cNvPr id="707" name=""/>
              <p:cNvGrpSpPr/>
              <p:nvPr/>
            </p:nvGrpSpPr>
            <p:grpSpPr>
              <a:xfrm>
                <a:off x="2514600" y="1219320"/>
                <a:ext cx="3505320" cy="457200"/>
                <a:chOff x="2514600" y="1219320"/>
                <a:chExt cx="3505320" cy="45720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2514600" y="1219320"/>
                  <a:ext cx="1371600" cy="457200"/>
                </a:xfrm>
                <a:prstGeom prst="rect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ndrea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886200" y="1219320"/>
                  <a:ext cx="685800" cy="457200"/>
                </a:xfrm>
                <a:prstGeom prst="rect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27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572000" y="1219320"/>
                  <a:ext cx="1447920" cy="457200"/>
                </a:xfrm>
                <a:prstGeom prst="rect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21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2514600" y="1676520"/>
                <a:ext cx="3505320" cy="457200"/>
                <a:chOff x="2514600" y="1676520"/>
                <a:chExt cx="3505320" cy="4572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2514600" y="1676520"/>
                  <a:ext cx="1371600" cy="457200"/>
                </a:xfrm>
                <a:prstGeom prst="rect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ldo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886200" y="1676520"/>
                  <a:ext cx="685800" cy="457200"/>
                </a:xfrm>
                <a:prstGeom prst="rect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572000" y="1676520"/>
                  <a:ext cx="1447920" cy="457200"/>
                </a:xfrm>
                <a:prstGeom prst="rect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514600" y="2133720"/>
                <a:ext cx="3505320" cy="457200"/>
                <a:chOff x="2514600" y="2133720"/>
                <a:chExt cx="3505320" cy="45720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514600" y="2133720"/>
                  <a:ext cx="1371600" cy="457200"/>
                </a:xfrm>
                <a:prstGeom prst="rect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Filippo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886200" y="2133720"/>
                  <a:ext cx="685800" cy="457200"/>
                </a:xfrm>
                <a:prstGeom prst="rect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26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572000" y="2133720"/>
                  <a:ext cx="1447920" cy="457200"/>
                </a:xfrm>
                <a:prstGeom prst="rect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9" name=""/>
            <p:cNvSpPr/>
            <p:nvPr/>
          </p:nvSpPr>
          <p:spPr>
            <a:xfrm>
              <a:off x="2133720" y="2590920"/>
              <a:ext cx="4267080" cy="3276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3886200" y="685800"/>
            <a:ext cx="609480" cy="19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3886200" y="762120"/>
            <a:ext cx="2286000" cy="1981080"/>
            <a:chOff x="3886200" y="762120"/>
            <a:chExt cx="2286000" cy="1981080"/>
          </a:xfrm>
        </p:grpSpPr>
        <p:sp>
          <p:nvSpPr>
            <p:cNvPr id="722" name=""/>
            <p:cNvSpPr/>
            <p:nvPr/>
          </p:nvSpPr>
          <p:spPr>
            <a:xfrm>
              <a:off x="5334120" y="762120"/>
              <a:ext cx="838080" cy="1981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3886200" y="762120"/>
              <a:ext cx="1447920" cy="1828800"/>
              <a:chOff x="3886200" y="762120"/>
              <a:chExt cx="1447920" cy="1828800"/>
            </a:xfrm>
          </p:grpSpPr>
          <p:sp>
            <p:nvSpPr>
              <p:cNvPr id="724" name=""/>
              <p:cNvSpPr/>
              <p:nvPr/>
            </p:nvSpPr>
            <p:spPr>
              <a:xfrm>
                <a:off x="3886200" y="1219320"/>
                <a:ext cx="144792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886200" y="1676520"/>
                <a:ext cx="144792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886200" y="2133720"/>
                <a:ext cx="1447920" cy="457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886200" y="762120"/>
                <a:ext cx="1447920" cy="4572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Reddit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ondizione complessa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62120" y="1603440"/>
            <a:ext cx="77724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elect *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rom persone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where reddito &gt; 25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nd (eta &lt; 30 or eta &gt; 60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ondizione “LIKE”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e persone che hanno un nome che inizia per 'A' e ha una 'd' come terza lette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select * 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from persone 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where nome like 'A_d%'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Selezione, proiezione e join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struzioni SELECT con una sola relazione nella clausola FROM permettono di realizzar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elezioni, proiezioni, ridenominazio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on più relazioni nella FROM si realizzano join (e prodotti cartesian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5105520" y="228600"/>
            <a:ext cx="3504960" cy="990720"/>
            <a:chOff x="5105520" y="228600"/>
            <a:chExt cx="3504960" cy="990720"/>
          </a:xfrm>
        </p:grpSpPr>
        <p:sp>
          <p:nvSpPr>
            <p:cNvPr id="735" name=""/>
            <p:cNvSpPr/>
            <p:nvPr/>
          </p:nvSpPr>
          <p:spPr>
            <a:xfrm>
              <a:off x="5105520" y="76212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77120" y="762120"/>
              <a:ext cx="6858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t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05520" y="228600"/>
              <a:ext cx="1371600" cy="457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Arial"/>
                </a:rPr>
                <a:t>Perso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2920" y="762120"/>
              <a:ext cx="144756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ddi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105520" y="1219320"/>
            <a:ext cx="3504960" cy="4572000"/>
            <a:chOff x="5105520" y="1219320"/>
            <a:chExt cx="3504960" cy="4572000"/>
          </a:xfrm>
        </p:grpSpPr>
        <p:sp>
          <p:nvSpPr>
            <p:cNvPr id="740" name=""/>
            <p:cNvSpPr/>
            <p:nvPr/>
          </p:nvSpPr>
          <p:spPr>
            <a:xfrm>
              <a:off x="5105520" y="12193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re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77120" y="12193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05520" y="21337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77120" y="21337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05520" y="25909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n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77120" y="25909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05520" y="30481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lipp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77120" y="30481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05520" y="35053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g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77120" y="35053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05520" y="39625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ran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77120" y="39625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05520" y="44197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lg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77120" y="44197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05520" y="48769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rg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7120" y="48769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05520" y="53341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s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77120" y="53341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105520" y="167652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l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77120" y="1676520"/>
              <a:ext cx="6858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62920" y="12193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62920" y="21337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62920" y="25909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62920" y="30481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62920" y="35053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62920" y="39625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162920" y="44197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62920" y="48769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62920" y="53341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7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62920" y="1676520"/>
              <a:ext cx="144756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28600" y="380880"/>
            <a:ext cx="4572000" cy="457200"/>
            <a:chOff x="228600" y="380880"/>
            <a:chExt cx="4572000" cy="457200"/>
          </a:xfrm>
        </p:grpSpPr>
        <p:sp>
          <p:nvSpPr>
            <p:cNvPr id="771" name=""/>
            <p:cNvSpPr/>
            <p:nvPr/>
          </p:nvSpPr>
          <p:spPr>
            <a:xfrm>
              <a:off x="2057400" y="38088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d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8600" y="380880"/>
              <a:ext cx="1828800" cy="38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Arial"/>
                </a:rPr>
                <a:t>Maternit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429000" y="38088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gl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057400" y="838080"/>
            <a:ext cx="2743200" cy="2743200"/>
            <a:chOff x="2057400" y="838080"/>
            <a:chExt cx="2743200" cy="2743200"/>
          </a:xfrm>
        </p:grpSpPr>
        <p:sp>
          <p:nvSpPr>
            <p:cNvPr id="775" name=""/>
            <p:cNvSpPr/>
            <p:nvPr/>
          </p:nvSpPr>
          <p:spPr>
            <a:xfrm>
              <a:off x="2057400" y="838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s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57400" y="17524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n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057400" y="22096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n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57400" y="26668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057400" y="3124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57400" y="12952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s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29000" y="838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29000" y="17524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lg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29000" y="22096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lipp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29000" y="26668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re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29000" y="3124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l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429000" y="12952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g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28600" y="3809880"/>
            <a:ext cx="4572000" cy="457200"/>
            <a:chOff x="228600" y="3809880"/>
            <a:chExt cx="4572000" cy="457200"/>
          </a:xfrm>
        </p:grpSpPr>
        <p:sp>
          <p:nvSpPr>
            <p:cNvPr id="788" name=""/>
            <p:cNvSpPr/>
            <p:nvPr/>
          </p:nvSpPr>
          <p:spPr>
            <a:xfrm>
              <a:off x="2057400" y="380988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ad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" y="3809880"/>
              <a:ext cx="1828800" cy="3812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Arial"/>
                </a:rPr>
                <a:t>Paternità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29000" y="3809880"/>
              <a:ext cx="1371600" cy="457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gl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2057400" y="4267080"/>
            <a:ext cx="2743200" cy="2286000"/>
            <a:chOff x="2057400" y="4267080"/>
            <a:chExt cx="2743200" cy="2286000"/>
          </a:xfrm>
        </p:grpSpPr>
        <p:sp>
          <p:nvSpPr>
            <p:cNvPr id="792" name=""/>
            <p:cNvSpPr/>
            <p:nvPr/>
          </p:nvSpPr>
          <p:spPr>
            <a:xfrm>
              <a:off x="2057400" y="47242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g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57400" y="51814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Luig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57400" y="56386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ran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057400" y="60958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ran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057400" y="4267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rgi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000" y="47242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lg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29000" y="51814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ilipp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29000" y="56386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re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29000" y="60958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ld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29000" y="4267080"/>
              <a:ext cx="1371600" cy="457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ran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Informazioni e dati 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Nei sistemi informatici (e non solo), le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informazioni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vengono rappresentate in modo essenziale, spartano: attraverso i 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dati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Selezione, proiezione e join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42720" y="12949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71480" indent="-581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I padri di persone che guadagnano più di venti milio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04920" y="426708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447920" indent="-4860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select distinct padre</a:t>
            </a: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47920" indent="-4860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from persone, patern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47920" indent="-4860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where figlio = nome and reddito &gt; 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Join naturale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adre e madre di ogni perso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paternita </a:t>
            </a:r>
            <a:r>
              <a:rPr b="1" lang="it-IT" sz="2800" spc="-1" strike="noStrike">
                <a:solidFill>
                  <a:srgbClr val="ffcc66"/>
                </a:solidFill>
                <a:latin typeface="Arial"/>
              </a:rPr>
              <a:t>JOIN materni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select paternita.figlio,padre, madre</a:t>
            </a:r>
            <a:br>
              <a:rPr sz="2800"/>
            </a:b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from maternita, paternita</a:t>
            </a:r>
            <a:br>
              <a:rPr sz="2800"/>
            </a:b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where paternita.figlio = maternita.figl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Le persone che guadagnano più dei rispettivi padri; mostrare nome, reddito e reddito del pad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04920" y="251460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858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select f.nome, f.reddito, p.reddito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br>
              <a:rPr sz="2400"/>
            </a:b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from persone p, paternita, persone f</a:t>
            </a:r>
            <a:br>
              <a:rPr sz="2400"/>
            </a:b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where p.nome = padre and</a:t>
            </a:r>
            <a:br>
              <a:rPr sz="2400"/>
            </a:b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figlio = f.nome and</a:t>
            </a:r>
            <a:br>
              <a:rPr sz="2400"/>
            </a:b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cc66"/>
                </a:solidFill>
                <a:latin typeface="Arial"/>
              </a:rPr>
              <a:t>f.reddito &gt; p.red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Informazioni e dati 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definizioni dal Vocabolario della lingua italiana 1987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informazione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: notizia, dato o elemento che consente di avere conoscenza più o meno esatta di fatti, situazioni, modi di esser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dato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: ciò che è immediatamente presente alla conoscenza, prima di ogni elaborazione; (in informatica) elementi di informazione costituiti da simboli che debbono essere elabora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Base di dati 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(accezione generica, </a:t>
            </a:r>
            <a:r>
              <a:rPr b="1" lang="de-DE" sz="3200" spc="-1" strike="noStrike">
                <a:solidFill>
                  <a:srgbClr val="99ff66"/>
                </a:solidFill>
                <a:latin typeface="Arial"/>
              </a:rPr>
              <a:t>metodologica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Insieme organizzato di dati utilizzati per il supporto allo svolgimento delle attività di un ente (azienda, ufficio, person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(accezione specifica, </a:t>
            </a:r>
            <a:r>
              <a:rPr b="1" lang="de-DE" sz="3200" spc="-1" strike="noStrike">
                <a:solidFill>
                  <a:srgbClr val="99ff66"/>
                </a:solidFill>
                <a:latin typeface="Arial"/>
              </a:rPr>
              <a:t>metodologica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tecnologica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insieme di dati gestito da un DBM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ccff"/>
                </a:solidFill>
                <a:latin typeface="Arial"/>
              </a:rPr>
              <a:t>Base di dati 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(accezione generica, </a:t>
            </a:r>
            <a:r>
              <a:rPr b="1" lang="de-DE" sz="3200" spc="-1" strike="noStrike">
                <a:solidFill>
                  <a:srgbClr val="99ff66"/>
                </a:solidFill>
                <a:latin typeface="Arial"/>
              </a:rPr>
              <a:t>metodologica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Insieme organizzato di dati utilizzati per il supporto allo svolgimento delle attività di un ente (azienda, ufficio, person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(accezione specifica, </a:t>
            </a:r>
            <a:r>
              <a:rPr b="1" lang="de-DE" sz="3200" spc="-1" strike="noStrike">
                <a:solidFill>
                  <a:srgbClr val="99ff66"/>
                </a:solidFill>
                <a:latin typeface="Arial"/>
              </a:rPr>
              <a:t>metodologica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tecnologica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Arial"/>
              </a:rPr>
              <a:t>insieme di dati gestito da un DBM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ccff"/>
                </a:solidFill>
                <a:latin typeface="Arial"/>
              </a:rPr>
              <a:t>Sistema di gestione di basi di dati</a:t>
            </a:r>
            <a:br>
              <a:rPr sz="3200"/>
            </a:br>
            <a:r>
              <a:rPr b="1" lang="de-DE" sz="3200" spc="-1" strike="noStrike">
                <a:solidFill>
                  <a:srgbClr val="66ccff"/>
                </a:solidFill>
                <a:latin typeface="Arial"/>
              </a:rPr>
              <a:t>DataBase Management System (DBMS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Sistema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che gestisce collezioni di dati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cc66"/>
                </a:solidFill>
                <a:uFillTx/>
                <a:latin typeface="Arial"/>
                <a:hlinkClick r:id="rId2" action="ppaction://hlinksldjump"/>
              </a:rPr>
              <a:t>grandi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persistenti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condiv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garantendo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cc66"/>
                </a:solidFill>
                <a:uFillTx/>
                <a:latin typeface="Arial"/>
                <a:hlinkClick r:id="rId3" action="ppaction://hlinksldjump"/>
              </a:rPr>
              <a:t>privatezza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affidabilità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efficienza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cc66"/>
                </a:solidFill>
                <a:latin typeface="Arial"/>
              </a:rPr>
              <a:t>effica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2T08:10:11Z</dcterms:created>
  <dc:creator/>
  <dc:description/>
  <dc:language>en-US</dc:language>
  <cp:lastModifiedBy>frix</cp:lastModifiedBy>
  <cp:lastPrinted>2000-09-30T09:09:40Z</cp:lastPrinted>
  <dcterms:modified xsi:type="dcterms:W3CDTF">2005-10-11T07:27:09Z</dcterms:modified>
  <cp:revision>100</cp:revision>
  <dc:subject/>
  <dc:title>Atzeni, Ceri, Paraboschi, Torlone Basi di dati McGraw-Hill, 1996-2002</dc:title>
</cp:coreProperties>
</file>