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217-FED2-47D8-91C0-DF7F995B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B61-DF67-4E29-BB50-489579D7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754-29BF-402F-8DBD-F4DC595B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EB7-C4A0-4939-8EB0-48AB449E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709-F264-4BEB-8CAE-88C2B993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74D-2A0B-47AB-B5AB-AA1EE72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A09-E52F-4341-A606-BDC1115C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61A-33C7-4FDA-A3D9-8CF3A4A4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9C3-07ED-471B-993A-6986438D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165-A1EE-4CC1-81B2-7B07053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9B3-217F-4033-9575-E6B1EAA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4FC-F98A-45F7-A783-20A5B0B0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399A-EB2F-4B97-B418-847D8345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Verdana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ASFORMATA DI FOU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Esempio di “musica+vo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0880" y="2590920"/>
            <a:ext cx="4019760" cy="4038480"/>
            <a:chOff x="380880" y="2590920"/>
            <a:chExt cx="4019760" cy="40384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380880" y="3029040"/>
              <a:ext cx="401976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351800" y="2590920"/>
              <a:ext cx="152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Verdana"/>
                </a:rPr>
                <a:t>N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6600"/>
                  </a:solidFill>
                  <a:latin typeface="Verdana"/>
                </a:rPr>
                <a:t>t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572000" y="2631960"/>
            <a:ext cx="4019400" cy="4073760"/>
            <a:chOff x="4572000" y="2631960"/>
            <a:chExt cx="4019400" cy="407376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4572000" y="3105000"/>
              <a:ext cx="4019400" cy="36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245920" y="2631960"/>
              <a:ext cx="25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Verdana"/>
                </a:rPr>
                <a:t>In Frequenza (FF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ARGHEZZA DI B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762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00"/>
                </a:solidFill>
                <a:latin typeface="Verdana"/>
              </a:rPr>
              <a:t>Abbiamo detto ch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249"/>
              </a:spcBef>
              <a:buClr>
                <a:srgbClr val="00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La FFT è applicabile su sequenze di punti pari a potenze di 2 (ad esempio S=512 punt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249"/>
              </a:spcBef>
              <a:buClr>
                <a:srgbClr val="00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La trasformata opera filtri con banda uguale a FC/2=Fmax diviso la metà del numero di punti nel tempo (ad esempio S=512) d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1) ciascuna banda “B” ha una larghezza pari a FC/2 diviso S/2 ovvero </a:t>
            </a:r>
            <a:r>
              <a:rPr b="1" lang="it-IT" sz="1000" spc="-1" strike="noStrike">
                <a:solidFill>
                  <a:srgbClr val="0000ff"/>
                </a:solidFill>
                <a:latin typeface="Verdana"/>
              </a:rPr>
              <a:t>Fmax diviso S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2) i filtri si trovano posizionati in modo equispaziato tra zero e FC/2 (o Fma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00"/>
                </a:solidFill>
                <a:latin typeface="Verdana"/>
              </a:rPr>
              <a:t>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300"/>
              </a:spcBef>
              <a:buClr>
                <a:srgbClr val="00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Verdana"/>
              </a:rPr>
              <a:t>Se FC=44.100 allora Fmax=22.050, se scegliamo sequenze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S=1.024 punti -&gt; larghezza di banda = 22.050/512 =     43 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S=   256 punti -&gt; larghezza di banda = 22.050/128 =   172 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300"/>
              </a:spcBef>
              <a:buClr>
                <a:srgbClr val="00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Verdana"/>
              </a:rPr>
              <a:t>Se FC=16.000 allora Fmax=8.000, se scegliamo sequenze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S=1.024 punti -&gt; larghezza di banda = 8.000/512 =    15 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Verdana"/>
              </a:rPr>
              <a:t>S=  256  punti  -&gt; larghezza di banda =  8.000/128 =    62 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con FC fissata, più grande è la sequenza </a:t>
            </a:r>
            <a:r>
              <a:rPr b="1" lang="it-IT" sz="1600" spc="-1" strike="noStrike" u="sng">
                <a:solidFill>
                  <a:srgbClr val="006600"/>
                </a:solidFill>
                <a:uFillTx/>
                <a:latin typeface="Verdana"/>
              </a:rPr>
              <a:t>maggiore</a:t>
            </a: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 è la “risoluzion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con S fissato,   più grande è la FC              </a:t>
            </a:r>
            <a:r>
              <a:rPr b="1" lang="it-IT" sz="1600" spc="-1" strike="noStrike" u="sng">
                <a:solidFill>
                  <a:srgbClr val="006600"/>
                </a:solidFill>
                <a:uFillTx/>
                <a:latin typeface="Verdana"/>
              </a:rPr>
              <a:t>minore</a:t>
            </a: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 è la “risoluzion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ANDA ST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Una analisi nel dominio della frequenza si dice a “banda stretta” quando si vuole studiare un fenomeno con una alta risoluzione in frequenza (ad esempio identificare la posizione di una frequenza con una precisione molto accur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(A parità di FC) Per avere una banda stretta è necessario analizzare una sequenza grande di punti ovvero considerare un “tempo sufficientemente lungo di osservazio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Se un fenomeno è molto breve nel tempo, non si analizza correttamente con una analisi a banda stretta (che come detto richiede una osservazione lunga nel tempo), in conclusione per la banda stretta abbia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Finestre temporali grandi (numero di punti elevato), ovv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ecessità di osservare il segnale per tempi lung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Possibilità di distinguere con precisione la frequenza di un seg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Difficoltà di osservare fenomeni di breve durata tempo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ANDA LA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00"/>
                </a:solidFill>
                <a:latin typeface="Verdana"/>
              </a:rPr>
              <a:t>Una analisi nel dominio della frequenza si dice a “banda larga” quando si vuole studiare un fenomeno con una scarsa risoluzione in frequenza (ma che al contrario  contiene fenomeni di breve durata, ad esempio impulsi, burst, e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00"/>
                </a:solidFill>
                <a:latin typeface="Verdana"/>
              </a:rPr>
              <a:t>(A parità di FC) Per avere una banda larga è necessario analizzare una sequenza piccola di punti ovvero considerare un “tempo sufficientemente breve di osservazione” (dell’ordine della brevità del fenomeno di inter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00"/>
                </a:solidFill>
                <a:latin typeface="Verdana"/>
              </a:rPr>
              <a:t>Se un fenomeno è molto grande nel tempo, si analizza correttamente con una analisi a banda larga ma la misura in frequenza che si ottiene non è risoluta, in conclusione per la banda stretta abbia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Finestre temporali piccole (numero di punti piccolo), ovv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Necessità di osservare il segnale per tempi bre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Possibilità di distinguere con precisione nel tempo fenomeni di breve du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Difficoltà di osservare con precisione fenomeni di lunga durata tempo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ONOGRAM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43040" y="1981080"/>
            <a:ext cx="538164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44240" y="1752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impu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63640" y="22860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Verdana"/>
              </a:rPr>
              <a:t>1° sinuso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8840" y="5105520"/>
            <a:ext cx="3886200" cy="457200"/>
          </a:xfrm>
          <a:prstGeom prst="rightArrow">
            <a:avLst>
              <a:gd name="adj1" fmla="val 50000"/>
              <a:gd name="adj2" fmla="val 2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 E M P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95200" y="3466440"/>
            <a:ext cx="3886200" cy="457200"/>
          </a:xfrm>
          <a:prstGeom prst="rightArrow">
            <a:avLst>
              <a:gd name="adj1" fmla="val 50000"/>
              <a:gd name="adj2" fmla="val 2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 R E Q U E N  Z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167652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colore indica l’intensità della componente spettra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Giallo= fortiss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Rosso= f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Blu=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ro=ba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720" y="2514600"/>
            <a:ext cx="266688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97160" y="190512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2 sinuso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3640" y="470844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Verdana"/>
              </a:rPr>
              <a:t>2° sinuso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4648320"/>
            <a:ext cx="25146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7440" y="594360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Verdana"/>
              </a:rPr>
              <a:t>impul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4114440"/>
            <a:ext cx="114300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38720" y="445788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05120" y="396252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Larghezz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di b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343400"/>
            <a:ext cx="4572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ONOGRAMMA BANDA ST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81360" y="2257560"/>
            <a:ext cx="5381280" cy="4219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72480" y="19810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impu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73120" y="19810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2 sinuso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697120"/>
            <a:ext cx="14479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S   = 40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FC = 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Scarsa risoluzione nel 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Alta risoluzione in frequ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ONOGRAMMA BANDA LA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81360" y="2257560"/>
            <a:ext cx="5381280" cy="4219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472480" y="19810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impu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3120" y="19810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2 sinuso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697120"/>
            <a:ext cx="1295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S   =   1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FC = 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Alta risoluzione nel 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Scarsa risoluzione in frequ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MO NOISE RE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00"/>
                </a:solidFill>
                <a:latin typeface="Verdana"/>
              </a:rPr>
              <a:t>Lanciare il programma CoolEdit e da menù scegliere nella sezione tuto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19440" y="2743200"/>
          <a:ext cx="55051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2743200"/>
                    <a:ext cx="55051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GNALI NELLA FREQU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Il sistema auditivo esegue una conversione (meccanica-chimica) da forma d’onda nel tempo a intensità nelle diverse frequenze 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(serie di filt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962520"/>
            <a:ext cx="9144000" cy="2895480"/>
            <a:chOff x="0" y="3962520"/>
            <a:chExt cx="9144000" cy="2895480"/>
          </a:xfrm>
        </p:grpSpPr>
        <p:sp>
          <p:nvSpPr>
            <p:cNvPr id="45" name=""/>
            <p:cNvSpPr/>
            <p:nvPr/>
          </p:nvSpPr>
          <p:spPr>
            <a:xfrm>
              <a:off x="0" y="3962520"/>
              <a:ext cx="9144000" cy="289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nk.Floyd.-.Dark.side.of.the.Moon" descr=""/>
            <p:cNvPicPr/>
            <p:nvPr/>
          </p:nvPicPr>
          <p:blipFill>
            <a:blip r:embed="rId1"/>
            <a:stretch/>
          </p:blipFill>
          <p:spPr>
            <a:xfrm>
              <a:off x="2362320" y="3983040"/>
              <a:ext cx="4189320" cy="27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APPRESENTAZIONE IN FREQU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Abbiamo già detto che un segnale (una serie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finita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di punti) può essere “scomposto” in una serie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finita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di sinuso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Ordinando in frequenza (velocità) dette sinusoidi (dalla più bassa alla più alta) e misurando l’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mpiezza delle singole sinusoidi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si ottiene lo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SPETTRO IN FREQUENZA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del segnale nel t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ANCO DI FIL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Ricordando quanto detto sulla frequenza di campionamento FC, consideriamo ora un 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Verdana"/>
              </a:rPr>
              <a:t>intervallo</a:t>
            </a: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 di frequenza (Fb-</a:t>
            </a:r>
            <a:r>
              <a:rPr b="1" lang="it-IT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; Fb+</a:t>
            </a:r>
            <a:r>
              <a:rPr b="1" lang="it-IT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Ovviamente è necessario porre attenzione affinché Fb-</a:t>
            </a:r>
            <a:r>
              <a:rPr b="1" lang="it-IT" sz="16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 non sia minore di zero e Fb+</a:t>
            </a:r>
            <a:r>
              <a:rPr b="1" lang="it-IT" sz="16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 non sia maggiore di 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Considerando 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Verdana"/>
              </a:rPr>
              <a:t>TUTTE</a:t>
            </a: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 le singole sinusoidi  che appartengono a questo intervallo, e sommando le loro ampiezze otteniamo la componente spettrale della frequenza Fb, con 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Verdana"/>
              </a:rPr>
              <a:t>larghezza di banda 2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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Possiamo definire queste bande a nostro piacimento, anche con sovrapposizione, con forme diverse (media pesata), ecc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ASFORMATA DI FOU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Dato una segnale limitato nel tempo (sequenza finita di punti, e a questo segnale si applica un “banco di filtri” do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tutti i filtri sono adiacenti l’un l’altro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hanno la stessa larghezza di banda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nel loro insieme coprono l’intervallo da zero sino a FC/2 (ma massima frequenza per il teorema di Nyqu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Si dice che si è eseguita la TRASFORMATA DI FOURIER del segnale del tempo, si ottiene così la sua RAPPRESENTAZIONE IN FREQUENZA </a:t>
            </a:r>
            <a:br>
              <a:rPr sz="1800"/>
            </a:b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(o rappresentazione spettr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ASFORMATA VELOCE DI FOURIER - F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Se la il numero di punti della sequenza che rappresenta il nostro segnale nel tempo è una potenza di 2 </a:t>
            </a:r>
            <a:r>
              <a:rPr b="1" lang="it-IT" sz="1200" spc="-1" strike="noStrike">
                <a:solidFill>
                  <a:srgbClr val="006600"/>
                </a:solidFill>
                <a:latin typeface="Verdana"/>
              </a:rPr>
              <a:t>(2,4,8,16,32,64,128,256,</a:t>
            </a:r>
            <a:r>
              <a:rPr b="1" lang="it-IT" sz="1200" spc="-1" strike="noStrike">
                <a:solidFill>
                  <a:srgbClr val="ff0000"/>
                </a:solidFill>
                <a:latin typeface="Verdana"/>
              </a:rPr>
              <a:t>512</a:t>
            </a:r>
            <a:r>
              <a:rPr b="1" lang="it-IT" sz="1200" spc="-1" strike="noStrike">
                <a:solidFill>
                  <a:srgbClr val="006600"/>
                </a:solidFill>
                <a:latin typeface="Verdana"/>
              </a:rPr>
              <a:t>,1024,2048, ecc)</a:t>
            </a: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se siamo disposti ad avere un banco di filtri equispaziati uguale alla metà del numero di punti </a:t>
            </a:r>
            <a:r>
              <a:rPr b="1" lang="it-IT" sz="1400" spc="-1" strike="noStrike">
                <a:solidFill>
                  <a:srgbClr val="006600"/>
                </a:solidFill>
                <a:latin typeface="Verdana"/>
              </a:rPr>
              <a:t>(ad esempio se il numero di punti è 512 si avranno 256 filtri)</a:t>
            </a:r>
            <a:r>
              <a:rPr b="1" lang="it-IT" sz="1800" spc="-1" strike="noStrike">
                <a:solidFill>
                  <a:srgbClr val="006600"/>
                </a:solidFill>
                <a:latin typeface="Verdana"/>
              </a:rPr>
              <a:t> all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si può eseguire una particolare trasformazione detta </a:t>
            </a:r>
            <a:br>
              <a:rPr sz="1600"/>
            </a:b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TRASFORMATA DI FOURIER VELOCE</a:t>
            </a:r>
            <a:r>
              <a:rPr b="1" lang="it-IT" sz="1600" spc="-1" strike="noStrike">
                <a:solidFill>
                  <a:srgbClr val="006600"/>
                </a:solidFill>
                <a:latin typeface="Verdana"/>
              </a:rPr>
              <a:t> (Fast Fourier Transform) la cui realizzazione su personal computer risulta molto più semplice e veloce rispetto alla normale trasformata di Fou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GNALE “INFINITO”</a:t>
            </a:r>
            <a:br>
              <a:rPr sz="36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NEL TE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Sino ad ora abbiamo assunto che il segnale sia costituito da un numero finito di ele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La stessa condizione viene anche espressa richiedendo che il “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segnale sia periodico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” ovvero si ripeta uguale a se stesso nel tempo (ad infinito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Solo se un segnale è costituito da un numero finito di elementi possiamo pensare di ripetere la sua forma una, due… un numero infinito di vol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HE COSA POSSIAMO/DOBBIAMO FARE SE QUESTE CONDIZIONI NON SONO RISPETTAT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NALISI A BREVE TER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Se il segnale (cioè il fenomeno in osservazione) non rispetta le condizioni per operare una analisi in frequenz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DOBBIAMO ALTERAR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il segnale affinché queste condizioni siano rispet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dentificata la sequenza di punti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(ad esempio di 256 punti per poter eseguire una FFT)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di nostro interes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Si azzerano tutti i punti al fuori di quelli di nostro inte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Si moltiplicano i rimanenti (ad esempio 256) per dei coefficienti in modo tale che quelli laterali si “avvicinino a zero” e rispettino determinate caratteris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i opera cioè una FINESTRATURA del segnale nel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INEST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00"/>
                </a:solidFill>
                <a:latin typeface="Verdana"/>
              </a:rPr>
              <a:t>SEGNALE ORIGI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6600"/>
                </a:solidFill>
                <a:latin typeface="Verdana"/>
              </a:rPr>
              <a:t>(non è “corretto” applicare la F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00"/>
                </a:solidFill>
                <a:latin typeface="Verdana"/>
              </a:rPr>
              <a:t>FIN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00"/>
                </a:solidFill>
                <a:latin typeface="Verdana"/>
              </a:rPr>
              <a:t>RI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6600"/>
                </a:solidFill>
                <a:latin typeface="Verdana"/>
              </a:rPr>
              <a:t>(è “corretto” applicare la F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62320" y="3200400"/>
          <a:ext cx="3610080" cy="17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2320" y="3200400"/>
                    <a:ext cx="36100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114800" y="1676520"/>
          <a:ext cx="3610080" cy="171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76520"/>
                    <a:ext cx="36100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114800" y="4915080"/>
          <a:ext cx="3610080" cy="1714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915080"/>
                    <a:ext cx="36100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6:03:22Z</dcterms:created>
  <dc:creator>max</dc:creator>
  <dc:description/>
  <dc:language>en-US</dc:language>
  <cp:lastModifiedBy>max</cp:lastModifiedBy>
  <dcterms:modified xsi:type="dcterms:W3CDTF">2002-11-21T16:47:49Z</dcterms:modified>
  <cp:revision>113</cp:revision>
  <dc:subject/>
  <dc:title>Presentazione di PowerPoint</dc:title>
</cp:coreProperties>
</file>