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A62-021C-4C23-BCDB-93043B29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9D7-FE50-48E1-BA96-2394B782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FE7-2295-49C1-AF2C-F0079289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CB5-A795-4F6F-B32A-7F786543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036-DA87-44EF-AA11-C32E533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0E8-E67F-4A40-8F30-7CE9F1E5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BAD-8BE5-4365-B4A8-6BEBEF7D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AF5-55A5-47C2-8B8C-8311AF03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B47-DD5C-455D-AD70-DA8DF80A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E90-9259-4C5C-93F0-170BE54B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D05-1AF9-4F25-8DC2-F24BCE70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D6F-1328-4CFB-B2D3-1786351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488A-2B9F-4799-802A-8CF3FF1D8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IPI DI SEGNAL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Rispetto alla loro “velocità di cambiare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Segnali “lentamente” variabili nel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Segnali “velocemente” variabili nel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Rispetto alla loro “concentrazione nel tempo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Delta di Di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Segnale impul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Segnale period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Rispetto al loro “sapore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Segnale sinusoid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Segnale armo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Rumore (impulsivo, colorato,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L SEGNALE NUMERICO</a:t>
            </a:r>
            <a:br>
              <a:rPr sz="3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fase1: l’AMPIEZZA)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52480" y="2143080"/>
          <a:ext cx="678204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43080"/>
                    <a:ext cx="678204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553000" y="3505320"/>
            <a:ext cx="152640" cy="15228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2295360"/>
          <a:ext cx="6781680" cy="3953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295360"/>
                    <a:ext cx="67816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372280" y="3457440"/>
            <a:ext cx="152280" cy="15264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76520" y="2295360"/>
          <a:ext cx="6781680" cy="3953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2295360"/>
                    <a:ext cx="67816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L SEGNALE NUMERICO</a:t>
            </a:r>
            <a:br>
              <a:rPr sz="3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fase2: il TEMPO)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81160" y="2066760"/>
          <a:ext cx="6781680" cy="39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2066760"/>
                    <a:ext cx="67816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181160" y="2057400"/>
          <a:ext cx="6781680" cy="39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057400"/>
                    <a:ext cx="67816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181160" y="1914480"/>
          <a:ext cx="6781680" cy="3952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1160" y="1914480"/>
                    <a:ext cx="67816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L SEGNALE NUMERICO</a:t>
            </a:r>
            <a:br>
              <a:rPr sz="36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o digitale)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AMPIEZZA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definita numericamente con risoluzione f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SEQUENZA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 intervalli definiti (e tipicamente equidistant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Il segnale numerico può essere assimilato ad una sequenza (periodica) di osservazioni sperimentali, i cui eventi corrispondono (ad esempio) alla ampiezza del seg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IPI 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speciali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 SEGNAL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DELTA DI DIRAC (impul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GRADINO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ONDA QUA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DENTE DI S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SINUSO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SOMMA (ARMONICA) DI SINUSOI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RU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Granu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Impul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Colorato (bianco, rosa, marrone, ec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FREQUENZA DI CAMPIONAMENTO</a:t>
            </a:r>
            <a:br>
              <a:rPr sz="36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esempi)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Se osserviamo il segnale una volta al seco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PERIODO 1s, FREQUENZA = 1/1s =1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Se osserviamo il segnale 100 volte al seco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PERIODO 0,01s, FREQUENZA = 1/0,01s =10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Se osserviamo il segnale 10.000 volte al seco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PERIODO 0,0001s=10ms, FREQUENZA = 1/ 0,0001s =10.00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Ad esempio nel caso dei CD-ROM audio la FC=44.100 Hz, ovvero si hanno 44.100 eventi ogni secondo (0,0000226s), ogni evento può assumere un valore (AMPIEZZA) compreso nei valori da –32767 a +327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ripetutamente nel tempo ad intervalli regolari, il tempo che intercorre tra un evento ed il successivo è detto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Verdana"/>
              </a:rPr>
              <a:t>PERIODO</a:t>
            </a: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 (e si misura in second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L’inverso del periodo 1/(periodo) è detto FREQUENZA (si misura in Hertz), in pratica indica quante volte viene osservato un evento nell’intervalli di un sec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5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La FREQUENZA DI CAMPIONAMENTO è la frequenza con cui si va a osservare il segnale nel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ELOCITA’ DI UN SEGNALE</a:t>
            </a:r>
            <a:br>
              <a:rPr sz="36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e di una sinusoide)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Nel senso comune la “velocità” è legata al tempo necessario a percorrere una dist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Nel nostro caso un segnale è “veloce” in relazione al tempo necessario per fare una determinata variazione in ampiezza 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(si ricordi la probabilità condizionata di un evento, allora si può condizionare un segnale a non avere “velocità” maggiori di un certo valore, ovvero imporre che due eventi successivi abbiano ampiezza la cui distanza è “limitata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Una sinusoide è tanto più veloce tanto più è alta la sua frequenza di ripetizione (le sinusoidi con alta frequenza, sono più veloc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COMPOSIZIONE DI UN SEGNA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In pratica (si dimostra che) ogni segnale rappresentato da un numero finito di punti può essere scomposto in una somma di segnali sinusoid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Trovata la sinusoide più veloce (la frequenza più alta) sarà sufficiente utilizzare una frequenza di campionamento sufficiente a “descrivere” questa sinus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Una sinusoide è completamente definita da due pu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OREMA DI NYQU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Un qualsiasi segnale (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Verdana"/>
              </a:rPr>
              <a:t>definito da una sequenza finita, o che sia scomponibile da una serie finita di sinusoidi</a:t>
            </a: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) può essere correttamente rappresentato in forma numerica con un campionamento a frequenza almeno doppia di quello della sinusoide “più veloce” S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FC </a:t>
            </a:r>
            <a:r>
              <a:rPr b="1" lang="it-IT" sz="2800" spc="-1" strike="noStrike" u="sng">
                <a:solidFill>
                  <a:srgbClr val="ff3300"/>
                </a:solidFill>
                <a:uFillTx/>
                <a:latin typeface="Verdana"/>
              </a:rPr>
              <a:t>deve</a:t>
            </a: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 essere maggiore di 2*Sv</a:t>
            </a: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,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FC = frequenza di campio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Sv = frequenza (sinusoide) più alta detta anche F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Quindi Fmax deve essere minore di FC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LI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Se FC è minore (o uguale) a 2*Fmax, tutte le componenti (sinusoidi) con frequenza compresa tra FC/2 e Fmax, vengono interpretate in maniera non corretta Fx diviene (FC/2  - [Fx-FC/2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19320" y="3809880"/>
            <a:ext cx="6095880" cy="2257920"/>
            <a:chOff x="1219320" y="3809880"/>
            <a:chExt cx="6095880" cy="2257920"/>
          </a:xfrm>
        </p:grpSpPr>
        <p:sp>
          <p:nvSpPr>
            <p:cNvPr id="91" name=""/>
            <p:cNvSpPr/>
            <p:nvPr/>
          </p:nvSpPr>
          <p:spPr>
            <a:xfrm>
              <a:off x="1219320" y="5715000"/>
              <a:ext cx="3047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67080" y="57150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33200" y="5791320"/>
              <a:ext cx="492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0                                                    FC/2                                                     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67080" y="38098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5080" y="423216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m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6560" y="4232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ib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267080" y="4876920"/>
            <a:ext cx="978120" cy="1144800"/>
            <a:chOff x="4267080" y="4876920"/>
            <a:chExt cx="978120" cy="1144800"/>
          </a:xfrm>
        </p:grpSpPr>
        <p:grpSp>
          <p:nvGrpSpPr>
            <p:cNvPr id="98" name=""/>
            <p:cNvGrpSpPr/>
            <p:nvPr/>
          </p:nvGrpSpPr>
          <p:grpSpPr>
            <a:xfrm>
              <a:off x="4892400" y="4876920"/>
              <a:ext cx="352800" cy="1144800"/>
              <a:chOff x="4892400" y="4876920"/>
              <a:chExt cx="352800" cy="114480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5181480" y="4876920"/>
                <a:ext cx="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92400" y="5745240"/>
                <a:ext cx="35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0000"/>
                    </a:solidFill>
                    <a:latin typeface="Verdana"/>
                  </a:rPr>
                  <a:t>F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267080" y="5410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063600" y="4876920"/>
            <a:ext cx="1203480" cy="1144800"/>
            <a:chOff x="3063600" y="4876920"/>
            <a:chExt cx="1203480" cy="1144800"/>
          </a:xfrm>
        </p:grpSpPr>
        <p:grpSp>
          <p:nvGrpSpPr>
            <p:cNvPr id="103" name=""/>
            <p:cNvGrpSpPr/>
            <p:nvPr/>
          </p:nvGrpSpPr>
          <p:grpSpPr>
            <a:xfrm>
              <a:off x="3063600" y="4876920"/>
              <a:ext cx="352800" cy="1144800"/>
              <a:chOff x="3063600" y="4876920"/>
              <a:chExt cx="352800" cy="1144800"/>
            </a:xfrm>
          </p:grpSpPr>
          <p:sp>
            <p:nvSpPr>
              <p:cNvPr id="104" name=""/>
              <p:cNvSpPr/>
              <p:nvPr/>
            </p:nvSpPr>
            <p:spPr>
              <a:xfrm flipV="1">
                <a:off x="3352680" y="4876920"/>
                <a:ext cx="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63600" y="5745240"/>
                <a:ext cx="35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0000"/>
                    </a:solidFill>
                    <a:latin typeface="Verdana"/>
                  </a:rPr>
                  <a:t>F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3352680" y="5410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GNALI NEL T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Ampiezza, dinamica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Tipi di seg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Segnali discreti, continui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Tipi “speciali” di seg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Frequenza di camp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Tipi di conversione (analogico/digit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Filtri nel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CONVERSIONE D/A</a:t>
            </a:r>
            <a:br>
              <a:rPr sz="3600"/>
            </a:b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(sample &amp; h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l segnale (analogico) viene “catturato” e “mantenuto” al suo valore per il tempo sufficiente a misurarne l’Ampi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Questo è il vecchio tipo di conversione utilizzata fino a circa una decina di anni fa. Si ricorda per lo più per motivi “didattici” in quanto è concettualmente molto chi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VERSIONE D/A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sigma - del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Il segnale (analogico) viene “inseguito” da un segnale con frequenza di osservazione 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Verdana"/>
              </a:rPr>
              <a:t>altissima</a:t>
            </a: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 anche 64 volte maggiore di Nyquist. Il sistema però non è in grado di misurare l’ampiezza; è in grado </a:t>
            </a:r>
            <a:r>
              <a:rPr b="1" lang="it-IT" sz="1600" spc="-1" strike="noStrike" u="sng">
                <a:solidFill>
                  <a:srgbClr val="0000ff"/>
                </a:solidFill>
                <a:uFillTx/>
                <a:latin typeface="Verdana"/>
              </a:rPr>
              <a:t>solamente</a:t>
            </a: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  di sapere se l’ “inseguitore” deve salire o scendere per avvicinarsi al valore vero del seg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L’ “inseguitore può fare un solo passo alla volta e di ampiezza fissa (-1 o 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Verdana"/>
              </a:rPr>
              <a:t>È la tecnologia attualmente in uso in tutti i sistemi dalle schede per PC, ai DAT professionali, ec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Verdana"/>
              </a:rPr>
              <a:t>In pratica è come se un “inseguitore” si arrampicasse, o discendesse lungo il segnale a passi piccolissimi, ma velociss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VERSIONE A/D</a:t>
            </a:r>
            <a:br>
              <a:rPr sz="3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dai “numeri” al suo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È il problema inverso ha quello appena analizzato: si tratta di costruire un segnale (una forma d’onda) reale a partire dalla sua rappresentazione nume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I convertitori A/D (analogico-digitale) convertono i valori numerici in altrettanti valori di tensione (Volt) ciascu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Data una frequenza di riproduzione (l’analoga della frequenza di campionamento) il sistema crea, campione per campione, un segnale ampio quanto dettato dalla sequenza nume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Ma che valori deve assumere il segnale tra un campione ed il successivo, ovvero come “raccordare i diversi punt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76520" y="5410080"/>
            <a:ext cx="7162560" cy="990720"/>
            <a:chOff x="1676520" y="5410080"/>
            <a:chExt cx="7162560" cy="990720"/>
          </a:xfrm>
        </p:grpSpPr>
        <p:sp>
          <p:nvSpPr>
            <p:cNvPr id="114" name=""/>
            <p:cNvSpPr/>
            <p:nvPr/>
          </p:nvSpPr>
          <p:spPr>
            <a:xfrm>
              <a:off x="1676520" y="6400800"/>
              <a:ext cx="71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5791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240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3920" y="6019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43400" y="5410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2880" y="5562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220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81680" y="5791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5791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VERSIONE A/D</a:t>
            </a:r>
            <a:br>
              <a:rPr sz="3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Ricostruzione del segnale; filtro sin(x)/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Non è sufficiente “connettere” semplicemente” un punto con il succes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Per ciascun “campione ricostruito” è infatti necessario associare una speciale funzione del tipo SIN(x)/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Sostituendo a “ciascun” campione una forma d’onda siffatta si ottiene il segnale desid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Questa operazione è comunemente detta “FILTRO DI RICOSTRUZIONE” in quanto permette di “ricostruire” il segnale anche dove non è definito (ovvero tra un campione ed il successiv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9480" y="4419720"/>
            <a:ext cx="8020080" cy="2162160"/>
            <a:chOff x="609480" y="4419720"/>
            <a:chExt cx="8020080" cy="2162160"/>
          </a:xfrm>
        </p:grpSpPr>
        <p:grpSp>
          <p:nvGrpSpPr>
            <p:cNvPr id="127" name=""/>
            <p:cNvGrpSpPr/>
            <p:nvPr/>
          </p:nvGrpSpPr>
          <p:grpSpPr>
            <a:xfrm>
              <a:off x="609480" y="4419720"/>
              <a:ext cx="8020080" cy="2162160"/>
              <a:chOff x="609480" y="4419720"/>
              <a:chExt cx="8020080" cy="2162160"/>
            </a:xfrm>
          </p:grpSpPr>
          <p:graphicFrame>
            <p:nvGraphicFramePr>
              <p:cNvPr id="128" name=""/>
              <p:cNvGraphicFramePr/>
              <p:nvPr/>
            </p:nvGraphicFramePr>
            <p:xfrm>
              <a:off x="4343400" y="4419720"/>
              <a:ext cx="4286160" cy="2162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343400" y="4419720"/>
                        <a:ext cx="4286160" cy="21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30" name=""/>
              <p:cNvGrpSpPr/>
              <p:nvPr/>
            </p:nvGrpSpPr>
            <p:grpSpPr>
              <a:xfrm>
                <a:off x="609480" y="4723920"/>
                <a:ext cx="2743200" cy="1143360"/>
                <a:chOff x="609480" y="4723920"/>
                <a:chExt cx="2743200" cy="1143360"/>
              </a:xfrm>
            </p:grpSpPr>
            <p:sp>
              <p:nvSpPr>
                <p:cNvPr id="131" name=""/>
                <p:cNvSpPr/>
                <p:nvPr/>
              </p:nvSpPr>
              <p:spPr>
                <a:xfrm flipH="1">
                  <a:off x="609480" y="5867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1981080" y="472392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2895480" y="5181480"/>
                <a:ext cx="1219320" cy="381240"/>
              </a:xfrm>
              <a:prstGeom prst="rightArrow">
                <a:avLst>
                  <a:gd name="adj1" fmla="val 50000"/>
                  <a:gd name="adj2" fmla="val 7995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308000" y="4908600"/>
              <a:ext cx="75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Verdana"/>
                </a:rPr>
                <a:t>Sin(x)/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FILTRI NEL T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Il FILTRO nel tempo applicato ad un segnale numerico è una operazione matematica sui valori numerici che descrivono il segnale; il risultato è il “segnale filtrat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Un FILTRO opera “sempre” una perdita di informazioni rispetto al segnale originale; ovvero un filtro elimina (o meglio attenua) alcune informazioni </a:t>
            </a:r>
            <a:r>
              <a:rPr b="1" lang="it-IT" sz="1400" spc="-1" strike="noStrike">
                <a:solidFill>
                  <a:srgbClr val="0000ff"/>
                </a:solidFill>
                <a:latin typeface="Verdana"/>
              </a:rPr>
              <a:t>(tipicamente informazioni che non interessano o che nascondono altre informazioni di nostro interes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Verdana"/>
              </a:rPr>
              <a:t>Esistono due grandi famiglie di FIL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I FILTRI “FIR” (Finite impulse respon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Verdana"/>
              </a:rPr>
              <a:t>I FILTRI “IIR” (Infinite impulse respon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FILTRI F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 FILTRI FIR sono costituiti da una serie di coefficienti ad esempio C1, C2, C3, … CN dove N è detto “ordine”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Dato il segnale originale X1,X2,…. Il segnale “filtrato” Y1,Y2,… si calcola, punto per punto, moltiplicando e sommando i valori del segnale originale corrispettivo e i coefficienti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Ad esempio per un filtro di ordine 3 (c1,c2,c3) il segnale filtrato al punto 25 sarà ugua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Y25 = 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X25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3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+ X24*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2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+ X23*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1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,  al succes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Y26 = X26*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2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X25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2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+ X24*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1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, al succes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Y27 = X27*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2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+ X26*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2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X25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1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e così 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FILTRI I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 FILTRI IIR hanno una struttura più complessa, infatti il valore Y del segnale filtrato è calcolato sulla base dei coefficienti del filtro, dei valori del segnale (come nel caso dei filtri IIR) e dei valori precedenti del segnale filtrat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Per tale motivi i filtri IIR vengono detti filtri con “memori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Questa caratteristica però  complica notevolmente la matematica associata e in alcuni casi i filtri IIR possono assumere valori molto grandi (infinito); ne risulta che questi devono essere usati con cautela e solo da operatori con una buona esperienza nella elaborazione numerica dei seg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EMO FILT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Lanciare il programma CoolEdit e da menù scegliere nella sezione tuto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19440" y="2714760"/>
          <a:ext cx="5505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2714760"/>
                    <a:ext cx="5505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MPIEZ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L’ AMPIEZZA di un segnale ne indica la sua “potenza” (il volume, il livello sonoro, e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Nei segnali audio reali si misura in Pa </a:t>
            </a:r>
            <a:r>
              <a:rPr b="1" lang="it-IT" sz="1400" spc="-1" strike="noStrike">
                <a:solidFill>
                  <a:srgbClr val="0000ff"/>
                </a:solidFill>
                <a:latin typeface="Verdana"/>
              </a:rPr>
              <a:t>(Pa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Nei segnali elettrici in V </a:t>
            </a:r>
            <a:r>
              <a:rPr b="1" lang="it-IT" sz="1400" spc="-1" strike="noStrike">
                <a:solidFill>
                  <a:srgbClr val="0000ff"/>
                </a:solidFill>
                <a:latin typeface="Verdana"/>
              </a:rPr>
              <a:t>(Vol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Verdana"/>
              </a:rPr>
              <a:t>Nei segnali numerici con opportuna norm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Ad esempio da –1,00 a +1,00 nei “softwar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Oppure da –32767 a +32768 </a:t>
            </a:r>
            <a:r>
              <a:rPr b="1" lang="it-IT" sz="1400" spc="-1" strike="noStrike">
                <a:solidFill>
                  <a:srgbClr val="0000ff"/>
                </a:solidFill>
                <a:latin typeface="Verdana"/>
              </a:rPr>
              <a:t>(CD, DAT, schede a 16 b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MPIEZZA (d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L’AMPIEZZA negli strumenti viene controllata del “guadagno” o “amplificazio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Raddoppiando il guadagno si ottiene un’ampiezza doppia, e così 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La percezione tuttavia ci porta a considerare guadagni o amplificazioni in “scala logaritmica”, ovvero a misurare l’ampiezza in dB (Decibel) dove detta A la ampiezza di un segn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Ampiezza in decibel = 20 * log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MPIEZZA </a:t>
            </a:r>
            <a:br>
              <a:rPr sz="36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raddoppio, dimezz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d ogni raddoppio di ampiezza, si ha una variazione in decibel pari a +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d ogni dimezzamento di ampiezza, si ha una variazione in decibel pari a –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L’uomo percepisce i livelli sonori secondo una scala in decibel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un valore doppio in decibel “sembra” un suono doppiamente f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NAM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Ogni rappresentazione di segnale, sia questa in Pa, V, o numerica, ha un suo “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Verdana"/>
              </a:rPr>
              <a:t>massimo</a:t>
            </a: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” (e/o “minimo”) che non può essere oltrepassato, o meglio 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Verdana"/>
              </a:rPr>
              <a:t>che non dovrebbe mai essere oltrepass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Un segnale la cui rappresentazione raggiunge valori vicino al massimo consentito si dice a “dinamica ottimale” o “pien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Un segnale viene “erroneamente” detto di “alta dinamica” (o alta qualità) quando in realtà è solamente a dinamica pi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ISOLU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La “risoluzione” di un segnale è l’intervallo più piccolo che permette di distinguere due misure di Ampiezza (ad esempio in un segnale numerico questo tipicamente è uguale a “1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Un segnale di “buona qualità” o di “alta dinamica” de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Sfruttare tutta la risoluzion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Avere una dinamica p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Ma questo dipende ovviamente dal sistema utilizz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ISOLUZIONE E DINAM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Nel linguaggio comune un sistema di alta dinamica è un sistema con alta risoluzione, in cui si riesce a sfruttare tutta la sua dinamica, ad esemp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Un microfono 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Un registratore analogico a bobine di “alta qualità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Per quanto riguarda i sistemi numerici abbiamo essenzialm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Telefono, PC scheda audio di scarsa qualità (8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CD, DAT scheda audio di alta qualità (16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DVD, Super CD, sistemi audio professionali (24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STORSIONE e SATURA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Quando per motivi diversi il valore in ampiezza di un segnale viene “alterato” (sistematicamente) da quello vero, si ha un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distorsione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del segnale</a:t>
            </a:r>
            <a:br>
              <a:rPr sz="2000"/>
            </a:br>
            <a:r>
              <a:rPr b="1" lang="en-US" sz="1000" spc="-1" strike="noStrike">
                <a:solidFill>
                  <a:srgbClr val="0000ff"/>
                </a:solidFill>
                <a:latin typeface="Verdana"/>
              </a:rPr>
              <a:t>(spesso si parla di distorsione in frequenza, ma come vedremo vi è un legame tra frequenza e temp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SATUR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Se il segnale che stiamo osservando supera il “massimo” consentito dalla dinamica si ottiene una rappresentazione falsata del seg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Un segnale “saturato” non rappresenta mai correttamente il fenomeno che stiamo osserv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6:03:22Z</dcterms:created>
  <dc:creator>max</dc:creator>
  <dc:description/>
  <dc:language>en-US</dc:language>
  <cp:lastModifiedBy>max</cp:lastModifiedBy>
  <dcterms:modified xsi:type="dcterms:W3CDTF">2002-11-21T08:44:48Z</dcterms:modified>
  <cp:revision>93</cp:revision>
  <dc:subject/>
  <dc:title>Presentazione di PowerPoint</dc:title>
</cp:coreProperties>
</file>